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B82-4514-4ED2-B5EC-66175121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EB3-2A3E-4045-9F88-CD4E9A42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F6E-1F2B-4022-88F6-8A8CEEFA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CDD-69F4-4827-91EE-8FED4F42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60B-B442-4394-8DE3-676B8B0D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9C0-3EE9-4465-941D-24D98B2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DCA-B1E3-4DED-87E8-D1205F0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089-097A-4C45-993C-AF857C85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E46-7B95-41E9-97CC-D6FE2E6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9C8-AFC4-46C9-8FB7-1CDEE86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741-0170-4187-8602-B2F8F66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2D7-46A5-4D10-A1BE-B0D05CD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5E78-0D59-4853-8DF8-D08F78C7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integer for each given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4200" y="2593800"/>
            <a:ext cx="599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3884760"/>
            <a:ext cx="607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60520" y="5402160"/>
            <a:ext cx="584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1880" y="2517840"/>
            <a:ext cx="81000" cy="312840"/>
          </a:xfrm>
          <a:custGeom>
            <a:avLst/>
            <a:gdLst/>
            <a:ahLst/>
            <a:rect l="l" t="t" r="r" b="b"/>
            <a:pathLst>
              <a:path w="224" h="869">
                <a:moveTo>
                  <a:pt x="11956" y="7020"/>
                </a:moveTo>
                <a:cubicBezTo>
                  <a:pt x="11956" y="7012"/>
                  <a:pt x="11956" y="7003"/>
                  <a:pt x="11956" y="6995"/>
                </a:cubicBezTo>
                <a:cubicBezTo>
                  <a:pt x="11927" y="7009"/>
                  <a:pt x="11868" y="7077"/>
                  <a:pt x="11857" y="7119"/>
                </a:cubicBezTo>
                <a:cubicBezTo>
                  <a:pt x="11842" y="7177"/>
                  <a:pt x="11832" y="7232"/>
                  <a:pt x="11832" y="7293"/>
                </a:cubicBezTo>
                <a:cubicBezTo>
                  <a:pt x="11832" y="7334"/>
                  <a:pt x="11832" y="7342"/>
                  <a:pt x="11832" y="7367"/>
                </a:cubicBezTo>
              </a:path>
              <a:path w="224" h="869">
                <a:moveTo>
                  <a:pt x="11881" y="7640"/>
                </a:moveTo>
                <a:cubicBezTo>
                  <a:pt x="11799" y="7673"/>
                  <a:pt x="11788" y="7726"/>
                  <a:pt x="11782" y="7813"/>
                </a:cubicBezTo>
                <a:cubicBezTo>
                  <a:pt x="11782" y="7838"/>
                  <a:pt x="11782" y="7846"/>
                  <a:pt x="11782" y="7863"/>
                </a:cubicBezTo>
                <a:cubicBezTo>
                  <a:pt x="11884" y="7854"/>
                  <a:pt x="11932" y="7858"/>
                  <a:pt x="11981" y="7764"/>
                </a:cubicBezTo>
                <a:cubicBezTo>
                  <a:pt x="11989" y="7747"/>
                  <a:pt x="11997" y="7731"/>
                  <a:pt x="12005" y="7714"/>
                </a:cubicBezTo>
                <a:cubicBezTo>
                  <a:pt x="11968" y="7705"/>
                  <a:pt x="11945" y="7672"/>
                  <a:pt x="11931" y="7665"/>
                </a:cubicBezTo>
                <a:cubicBezTo>
                  <a:pt x="11923" y="7665"/>
                  <a:pt x="11914" y="7665"/>
                  <a:pt x="1190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32160" y="3768840"/>
            <a:ext cx="90720" cy="322200"/>
          </a:xfrm>
          <a:custGeom>
            <a:avLst/>
            <a:gdLst/>
            <a:ahLst/>
            <a:rect l="l" t="t" r="r" b="b"/>
            <a:pathLst>
              <a:path w="249" h="894">
                <a:moveTo>
                  <a:pt x="11857" y="10468"/>
                </a:moveTo>
                <a:cubicBezTo>
                  <a:pt x="11865" y="10468"/>
                  <a:pt x="11873" y="10468"/>
                  <a:pt x="11881" y="10468"/>
                </a:cubicBezTo>
                <a:cubicBezTo>
                  <a:pt x="11860" y="10532"/>
                  <a:pt x="11857" y="10486"/>
                  <a:pt x="11857" y="10616"/>
                </a:cubicBezTo>
                <a:cubicBezTo>
                  <a:pt x="11857" y="10721"/>
                  <a:pt x="11868" y="10818"/>
                  <a:pt x="11832" y="10914"/>
                </a:cubicBezTo>
              </a:path>
              <a:path w="249" h="894">
                <a:moveTo>
                  <a:pt x="11931" y="11162"/>
                </a:moveTo>
                <a:cubicBezTo>
                  <a:pt x="11855" y="11162"/>
                  <a:pt x="11845" y="11159"/>
                  <a:pt x="11782" y="11212"/>
                </a:cubicBezTo>
                <a:cubicBezTo>
                  <a:pt x="11738" y="11250"/>
                  <a:pt x="11757" y="11308"/>
                  <a:pt x="11757" y="11361"/>
                </a:cubicBezTo>
                <a:cubicBezTo>
                  <a:pt x="11835" y="11354"/>
                  <a:pt x="11933" y="11361"/>
                  <a:pt x="11981" y="11286"/>
                </a:cubicBezTo>
                <a:cubicBezTo>
                  <a:pt x="12001" y="11255"/>
                  <a:pt x="12005" y="11199"/>
                  <a:pt x="11981" y="11187"/>
                </a:cubicBezTo>
                <a:cubicBezTo>
                  <a:pt x="11956" y="11187"/>
                  <a:pt x="11948" y="11187"/>
                  <a:pt x="11931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8120" y="3821040"/>
            <a:ext cx="27000" cy="1526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3543" y="10616"/>
                </a:moveTo>
                <a:cubicBezTo>
                  <a:pt x="13494" y="10633"/>
                  <a:pt x="13475" y="10787"/>
                  <a:pt x="13469" y="10840"/>
                </a:cubicBezTo>
                <a:cubicBezTo>
                  <a:pt x="13462" y="10903"/>
                  <a:pt x="13469" y="10974"/>
                  <a:pt x="13469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5160" y="3840120"/>
            <a:ext cx="81000" cy="392040"/>
          </a:xfrm>
          <a:custGeom>
            <a:avLst/>
            <a:gdLst/>
            <a:ahLst/>
            <a:rect l="l" t="t" r="r" b="b"/>
            <a:pathLst>
              <a:path w="225" h="1092">
                <a:moveTo>
                  <a:pt x="15081" y="10666"/>
                </a:moveTo>
                <a:cubicBezTo>
                  <a:pt x="15119" y="10679"/>
                  <a:pt x="15126" y="10814"/>
                  <a:pt x="15131" y="10864"/>
                </a:cubicBezTo>
                <a:cubicBezTo>
                  <a:pt x="15136" y="10912"/>
                  <a:pt x="15131" y="10964"/>
                  <a:pt x="15131" y="11013"/>
                </a:cubicBezTo>
              </a:path>
              <a:path w="225" h="1092">
                <a:moveTo>
                  <a:pt x="15007" y="11361"/>
                </a:moveTo>
                <a:cubicBezTo>
                  <a:pt x="14995" y="11422"/>
                  <a:pt x="14961" y="11477"/>
                  <a:pt x="14932" y="11534"/>
                </a:cubicBezTo>
                <a:cubicBezTo>
                  <a:pt x="14974" y="11534"/>
                  <a:pt x="15138" y="11566"/>
                  <a:pt x="15156" y="11509"/>
                </a:cubicBezTo>
                <a:cubicBezTo>
                  <a:pt x="15169" y="11467"/>
                  <a:pt x="15156" y="11405"/>
                  <a:pt x="15156" y="11361"/>
                </a:cubicBezTo>
                <a:cubicBezTo>
                  <a:pt x="15156" y="11286"/>
                  <a:pt x="15156" y="11604"/>
                  <a:pt x="15156" y="11633"/>
                </a:cubicBezTo>
                <a:cubicBezTo>
                  <a:pt x="15156" y="11708"/>
                  <a:pt x="15156" y="11716"/>
                  <a:pt x="15156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2160" y="5106960"/>
            <a:ext cx="206640" cy="519120"/>
          </a:xfrm>
          <a:custGeom>
            <a:avLst/>
            <a:gdLst/>
            <a:ahLst/>
            <a:rect l="l" t="t" r="r" b="b"/>
            <a:pathLst>
              <a:path w="572" h="1440">
                <a:moveTo>
                  <a:pt x="11857" y="14759"/>
                </a:moveTo>
                <a:cubicBezTo>
                  <a:pt x="11800" y="14778"/>
                  <a:pt x="11850" y="14846"/>
                  <a:pt x="11832" y="14908"/>
                </a:cubicBezTo>
                <a:cubicBezTo>
                  <a:pt x="11817" y="14958"/>
                  <a:pt x="11807" y="14978"/>
                  <a:pt x="11807" y="15032"/>
                </a:cubicBezTo>
              </a:path>
              <a:path w="572" h="1440">
                <a:moveTo>
                  <a:pt x="11857" y="15354"/>
                </a:moveTo>
                <a:cubicBezTo>
                  <a:pt x="11834" y="15384"/>
                  <a:pt x="11757" y="15476"/>
                  <a:pt x="11757" y="15503"/>
                </a:cubicBezTo>
                <a:cubicBezTo>
                  <a:pt x="11779" y="15568"/>
                  <a:pt x="11787" y="15583"/>
                  <a:pt x="11782" y="15627"/>
                </a:cubicBezTo>
                <a:cubicBezTo>
                  <a:pt x="11929" y="15627"/>
                  <a:pt x="11875" y="15591"/>
                  <a:pt x="11956" y="15503"/>
                </a:cubicBezTo>
                <a:cubicBezTo>
                  <a:pt x="11972" y="15485"/>
                  <a:pt x="11958" y="15442"/>
                  <a:pt x="11931" y="15429"/>
                </a:cubicBezTo>
                <a:cubicBezTo>
                  <a:pt x="11923" y="15429"/>
                  <a:pt x="11914" y="15429"/>
                  <a:pt x="11906" y="15429"/>
                </a:cubicBezTo>
              </a:path>
              <a:path w="572" h="1440">
                <a:moveTo>
                  <a:pt x="12328" y="14982"/>
                </a:moveTo>
                <a:cubicBezTo>
                  <a:pt x="12253" y="14963"/>
                  <a:pt x="12253" y="14979"/>
                  <a:pt x="12278" y="15056"/>
                </a:cubicBezTo>
                <a:cubicBezTo>
                  <a:pt x="12280" y="15046"/>
                  <a:pt x="12300" y="14918"/>
                  <a:pt x="12278" y="14957"/>
                </a:cubicBezTo>
                <a:cubicBezTo>
                  <a:pt x="12266" y="14979"/>
                  <a:pt x="12208" y="15109"/>
                  <a:pt x="12254" y="15032"/>
                </a:cubicBezTo>
                <a:cubicBezTo>
                  <a:pt x="12303" y="14950"/>
                  <a:pt x="12341" y="14927"/>
                  <a:pt x="12254" y="14957"/>
                </a:cubicBezTo>
                <a:cubicBezTo>
                  <a:pt x="12248" y="14985"/>
                  <a:pt x="12230" y="15125"/>
                  <a:pt x="12254" y="15007"/>
                </a:cubicBezTo>
              </a:path>
              <a:path w="572" h="1440">
                <a:moveTo>
                  <a:pt x="12030" y="14412"/>
                </a:moveTo>
                <a:cubicBezTo>
                  <a:pt x="12035" y="14454"/>
                  <a:pt x="12044" y="14624"/>
                  <a:pt x="12080" y="14660"/>
                </a:cubicBezTo>
                <a:cubicBezTo>
                  <a:pt x="12080" y="14652"/>
                  <a:pt x="12080" y="14643"/>
                  <a:pt x="12080" y="14635"/>
                </a:cubicBezTo>
                <a:cubicBezTo>
                  <a:pt x="12060" y="14534"/>
                  <a:pt x="12007" y="14439"/>
                  <a:pt x="11981" y="14337"/>
                </a:cubicBezTo>
                <a:cubicBezTo>
                  <a:pt x="11981" y="14329"/>
                  <a:pt x="11981" y="14320"/>
                  <a:pt x="11981" y="14312"/>
                </a:cubicBezTo>
                <a:cubicBezTo>
                  <a:pt x="12073" y="14292"/>
                  <a:pt x="12143" y="14236"/>
                  <a:pt x="12229" y="14188"/>
                </a:cubicBezTo>
              </a:path>
              <a:path w="572" h="1440">
                <a:moveTo>
                  <a:pt x="12080" y="14560"/>
                </a:moveTo>
                <a:cubicBezTo>
                  <a:pt x="12128" y="14551"/>
                  <a:pt x="12161" y="14522"/>
                  <a:pt x="12204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4200" y="2554200"/>
            <a:ext cx="1800" cy="98640"/>
          </a:xfrm>
          <a:custGeom>
            <a:avLst/>
            <a:gdLst/>
            <a:ahLst/>
            <a:rect l="l" t="t" r="r" b="b"/>
            <a:pathLst>
              <a:path w="1" h="274">
                <a:moveTo>
                  <a:pt x="13593" y="7094"/>
                </a:moveTo>
                <a:cubicBezTo>
                  <a:pt x="13593" y="7185"/>
                  <a:pt x="13593" y="7276"/>
                  <a:pt x="1359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94200" y="2759040"/>
            <a:ext cx="1764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13593" y="7665"/>
                </a:moveTo>
                <a:cubicBezTo>
                  <a:pt x="13593" y="7749"/>
                  <a:pt x="13624" y="7808"/>
                  <a:pt x="13643" y="7888"/>
                </a:cubicBezTo>
                <a:cubicBezTo>
                  <a:pt x="13643" y="7913"/>
                  <a:pt x="13643" y="7921"/>
                  <a:pt x="1364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9800" y="2187720"/>
            <a:ext cx="152280" cy="696600"/>
          </a:xfrm>
          <a:custGeom>
            <a:avLst/>
            <a:gdLst/>
            <a:ahLst/>
            <a:rect l="l" t="t" r="r" b="b"/>
            <a:pathLst>
              <a:path w="423" h="1936">
                <a:moveTo>
                  <a:pt x="15280" y="7119"/>
                </a:moveTo>
                <a:cubicBezTo>
                  <a:pt x="15280" y="7198"/>
                  <a:pt x="15258" y="7304"/>
                  <a:pt x="15304" y="7367"/>
                </a:cubicBezTo>
              </a:path>
              <a:path w="423" h="1936">
                <a:moveTo>
                  <a:pt x="15255" y="7764"/>
                </a:moveTo>
                <a:cubicBezTo>
                  <a:pt x="15298" y="7764"/>
                  <a:pt x="15323" y="7758"/>
                  <a:pt x="15354" y="7739"/>
                </a:cubicBezTo>
                <a:cubicBezTo>
                  <a:pt x="15334" y="7848"/>
                  <a:pt x="15302" y="7926"/>
                  <a:pt x="15230" y="8012"/>
                </a:cubicBezTo>
                <a:cubicBezTo>
                  <a:pt x="15302" y="8012"/>
                  <a:pt x="15363" y="8000"/>
                  <a:pt x="15429" y="7987"/>
                </a:cubicBezTo>
                <a:cubicBezTo>
                  <a:pt x="15453" y="7987"/>
                  <a:pt x="15462" y="7987"/>
                  <a:pt x="15478" y="7987"/>
                </a:cubicBezTo>
              </a:path>
              <a:path w="423" h="1936">
                <a:moveTo>
                  <a:pt x="15230" y="6276"/>
                </a:moveTo>
                <a:cubicBezTo>
                  <a:pt x="15230" y="6169"/>
                  <a:pt x="15168" y="6424"/>
                  <a:pt x="15131" y="6524"/>
                </a:cubicBezTo>
                <a:cubicBezTo>
                  <a:pt x="15091" y="6624"/>
                  <a:pt x="15086" y="6642"/>
                  <a:pt x="15056" y="6697"/>
                </a:cubicBezTo>
                <a:cubicBezTo>
                  <a:pt x="15091" y="6559"/>
                  <a:pt x="15168" y="6429"/>
                  <a:pt x="15230" y="6300"/>
                </a:cubicBezTo>
                <a:cubicBezTo>
                  <a:pt x="15267" y="6223"/>
                  <a:pt x="15305" y="6146"/>
                  <a:pt x="15354" y="6077"/>
                </a:cubicBezTo>
                <a:cubicBezTo>
                  <a:pt x="15388" y="6228"/>
                  <a:pt x="15395" y="6404"/>
                  <a:pt x="15453" y="6548"/>
                </a:cubicBezTo>
                <a:cubicBezTo>
                  <a:pt x="15478" y="6573"/>
                  <a:pt x="15486" y="6581"/>
                  <a:pt x="15453" y="6598"/>
                </a:cubicBezTo>
              </a:path>
              <a:path w="423" h="1936">
                <a:moveTo>
                  <a:pt x="15205" y="6524"/>
                </a:moveTo>
                <a:cubicBezTo>
                  <a:pt x="15222" y="6473"/>
                  <a:pt x="15322" y="6470"/>
                  <a:pt x="15379" y="6449"/>
                </a:cubicBezTo>
                <a:cubicBezTo>
                  <a:pt x="15419" y="6429"/>
                  <a:pt x="15426" y="6420"/>
                  <a:pt x="15453" y="6424"/>
                </a:cubicBezTo>
              </a:path>
              <a:path w="423" h="1936">
                <a:moveTo>
                  <a:pt x="15230" y="7193"/>
                </a:moveTo>
                <a:cubicBezTo>
                  <a:pt x="15309" y="7193"/>
                  <a:pt x="15275" y="7145"/>
                  <a:pt x="15230" y="7193"/>
                </a:cubicBezTo>
                <a:cubicBezTo>
                  <a:pt x="15163" y="7265"/>
                  <a:pt x="15264" y="7296"/>
                  <a:pt x="15304" y="7218"/>
                </a:cubicBezTo>
                <a:cubicBezTo>
                  <a:pt x="15312" y="7202"/>
                  <a:pt x="15321" y="7185"/>
                  <a:pt x="15329" y="7169"/>
                </a:cubicBezTo>
                <a:cubicBezTo>
                  <a:pt x="15307" y="7169"/>
                  <a:pt x="15170" y="7173"/>
                  <a:pt x="15205" y="7243"/>
                </a:cubicBezTo>
                <a:cubicBezTo>
                  <a:pt x="15251" y="7335"/>
                  <a:pt x="15313" y="7195"/>
                  <a:pt x="15329" y="7169"/>
                </a:cubicBezTo>
                <a:cubicBezTo>
                  <a:pt x="15296" y="7135"/>
                  <a:pt x="15280" y="7164"/>
                  <a:pt x="1528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00840" y="2544840"/>
            <a:ext cx="90360" cy="366480"/>
          </a:xfrm>
          <a:custGeom>
            <a:avLst/>
            <a:gdLst/>
            <a:ahLst/>
            <a:rect l="l" t="t" r="r" b="b"/>
            <a:pathLst>
              <a:path w="249" h="1018">
                <a:moveTo>
                  <a:pt x="16867" y="7094"/>
                </a:moveTo>
                <a:cubicBezTo>
                  <a:pt x="16829" y="7019"/>
                  <a:pt x="16842" y="7250"/>
                  <a:pt x="16842" y="7268"/>
                </a:cubicBezTo>
                <a:cubicBezTo>
                  <a:pt x="16842" y="7301"/>
                  <a:pt x="16842" y="7334"/>
                  <a:pt x="16842" y="7367"/>
                </a:cubicBezTo>
              </a:path>
              <a:path w="249" h="1018">
                <a:moveTo>
                  <a:pt x="16669" y="7764"/>
                </a:moveTo>
                <a:cubicBezTo>
                  <a:pt x="16730" y="7764"/>
                  <a:pt x="16817" y="7733"/>
                  <a:pt x="16867" y="7739"/>
                </a:cubicBezTo>
                <a:cubicBezTo>
                  <a:pt x="16963" y="7750"/>
                  <a:pt x="16833" y="7891"/>
                  <a:pt x="16818" y="7913"/>
                </a:cubicBezTo>
                <a:cubicBezTo>
                  <a:pt x="16810" y="7913"/>
                  <a:pt x="16801" y="7913"/>
                  <a:pt x="16793" y="7913"/>
                </a:cubicBezTo>
                <a:cubicBezTo>
                  <a:pt x="16819" y="7913"/>
                  <a:pt x="16921" y="7911"/>
                  <a:pt x="16917" y="7962"/>
                </a:cubicBezTo>
                <a:cubicBezTo>
                  <a:pt x="16909" y="8067"/>
                  <a:pt x="16772" y="8072"/>
                  <a:pt x="16718" y="8062"/>
                </a:cubicBezTo>
                <a:cubicBezTo>
                  <a:pt x="16710" y="8062"/>
                  <a:pt x="16702" y="8062"/>
                  <a:pt x="16694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35800" y="2544840"/>
            <a:ext cx="81000" cy="349200"/>
          </a:xfrm>
          <a:custGeom>
            <a:avLst/>
            <a:gdLst/>
            <a:ahLst/>
            <a:rect l="l" t="t" r="r" b="b"/>
            <a:pathLst>
              <a:path w="224" h="969">
                <a:moveTo>
                  <a:pt x="18182" y="7069"/>
                </a:moveTo>
                <a:cubicBezTo>
                  <a:pt x="18202" y="7142"/>
                  <a:pt x="18208" y="7224"/>
                  <a:pt x="18231" y="7293"/>
                </a:cubicBezTo>
                <a:cubicBezTo>
                  <a:pt x="18248" y="7344"/>
                  <a:pt x="18256" y="7343"/>
                  <a:pt x="18256" y="7392"/>
                </a:cubicBezTo>
              </a:path>
              <a:path w="224" h="969">
                <a:moveTo>
                  <a:pt x="18157" y="7838"/>
                </a:moveTo>
                <a:cubicBezTo>
                  <a:pt x="18157" y="7871"/>
                  <a:pt x="18157" y="7905"/>
                  <a:pt x="18157" y="7938"/>
                </a:cubicBezTo>
                <a:cubicBezTo>
                  <a:pt x="18206" y="7945"/>
                  <a:pt x="18353" y="7999"/>
                  <a:pt x="18380" y="7913"/>
                </a:cubicBezTo>
                <a:cubicBezTo>
                  <a:pt x="18380" y="7888"/>
                  <a:pt x="18380" y="7863"/>
                  <a:pt x="18380" y="7838"/>
                </a:cubicBezTo>
              </a:path>
              <a:path w="224" h="969">
                <a:moveTo>
                  <a:pt x="18380" y="7739"/>
                </a:moveTo>
                <a:cubicBezTo>
                  <a:pt x="18364" y="7847"/>
                  <a:pt x="18359" y="7909"/>
                  <a:pt x="18380" y="8012"/>
                </a:cubicBezTo>
                <a:cubicBezTo>
                  <a:pt x="18380" y="8020"/>
                  <a:pt x="18380" y="8029"/>
                  <a:pt x="18380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19840" y="3589200"/>
            <a:ext cx="189000" cy="142920"/>
          </a:xfrm>
          <a:custGeom>
            <a:avLst/>
            <a:gdLst/>
            <a:ahLst/>
            <a:rect l="l" t="t" r="r" b="b"/>
            <a:pathLst>
              <a:path w="521" h="398">
                <a:moveTo>
                  <a:pt x="16619" y="10071"/>
                </a:moveTo>
                <a:cubicBezTo>
                  <a:pt x="16619" y="10046"/>
                  <a:pt x="16619" y="10038"/>
                  <a:pt x="16619" y="10021"/>
                </a:cubicBezTo>
                <a:cubicBezTo>
                  <a:pt x="16648" y="10121"/>
                  <a:pt x="16676" y="10213"/>
                  <a:pt x="16694" y="10319"/>
                </a:cubicBezTo>
                <a:cubicBezTo>
                  <a:pt x="16694" y="10311"/>
                  <a:pt x="16694" y="10302"/>
                  <a:pt x="16694" y="10294"/>
                </a:cubicBezTo>
              </a:path>
              <a:path w="521" h="398">
                <a:moveTo>
                  <a:pt x="16446" y="9996"/>
                </a:moveTo>
                <a:cubicBezTo>
                  <a:pt x="16602" y="9980"/>
                  <a:pt x="16982" y="9884"/>
                  <a:pt x="16966" y="10170"/>
                </a:cubicBezTo>
                <a:cubicBezTo>
                  <a:pt x="16960" y="10288"/>
                  <a:pt x="16772" y="10416"/>
                  <a:pt x="16669" y="10344"/>
                </a:cubicBezTo>
                <a:cubicBezTo>
                  <a:pt x="16669" y="10336"/>
                  <a:pt x="16669" y="10327"/>
                  <a:pt x="16669" y="103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8120" y="3840120"/>
            <a:ext cx="6372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16793" y="10716"/>
                </a:moveTo>
                <a:cubicBezTo>
                  <a:pt x="16793" y="10691"/>
                  <a:pt x="16793" y="10683"/>
                  <a:pt x="16793" y="10666"/>
                </a:cubicBezTo>
                <a:cubicBezTo>
                  <a:pt x="16793" y="10773"/>
                  <a:pt x="16793" y="10881"/>
                  <a:pt x="16793" y="10988"/>
                </a:cubicBezTo>
              </a:path>
              <a:path w="175" h="323">
                <a:moveTo>
                  <a:pt x="16743" y="10840"/>
                </a:moveTo>
                <a:cubicBezTo>
                  <a:pt x="16751" y="10832"/>
                  <a:pt x="16760" y="10823"/>
                  <a:pt x="16768" y="10815"/>
                </a:cubicBezTo>
              </a:path>
              <a:path w="175" h="323">
                <a:moveTo>
                  <a:pt x="16842" y="10765"/>
                </a:moveTo>
                <a:cubicBezTo>
                  <a:pt x="16807" y="10730"/>
                  <a:pt x="16799" y="10774"/>
                  <a:pt x="16768" y="10815"/>
                </a:cubicBezTo>
                <a:cubicBezTo>
                  <a:pt x="16807" y="10809"/>
                  <a:pt x="16975" y="10746"/>
                  <a:pt x="16867" y="10691"/>
                </a:cubicBezTo>
                <a:cubicBezTo>
                  <a:pt x="16755" y="10634"/>
                  <a:pt x="16726" y="10769"/>
                  <a:pt x="16718" y="10840"/>
                </a:cubicBezTo>
                <a:cubicBezTo>
                  <a:pt x="16772" y="10825"/>
                  <a:pt x="16923" y="10665"/>
                  <a:pt x="16818" y="10691"/>
                </a:cubicBezTo>
                <a:cubicBezTo>
                  <a:pt x="16742" y="10710"/>
                  <a:pt x="16716" y="10763"/>
                  <a:pt x="16743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920" y="5340240"/>
            <a:ext cx="54000" cy="330480"/>
          </a:xfrm>
          <a:custGeom>
            <a:avLst/>
            <a:gdLst/>
            <a:ahLst/>
            <a:rect l="l" t="t" r="r" b="b"/>
            <a:pathLst>
              <a:path w="150" h="919">
                <a:moveTo>
                  <a:pt x="13345" y="14833"/>
                </a:moveTo>
                <a:cubicBezTo>
                  <a:pt x="13345" y="14930"/>
                  <a:pt x="13352" y="15015"/>
                  <a:pt x="13370" y="15106"/>
                </a:cubicBezTo>
                <a:cubicBezTo>
                  <a:pt x="13370" y="15114"/>
                  <a:pt x="13370" y="15123"/>
                  <a:pt x="13370" y="15131"/>
                </a:cubicBezTo>
              </a:path>
              <a:path w="150" h="919">
                <a:moveTo>
                  <a:pt x="13345" y="15429"/>
                </a:moveTo>
                <a:cubicBezTo>
                  <a:pt x="13363" y="15393"/>
                  <a:pt x="13373" y="15388"/>
                  <a:pt x="13419" y="15379"/>
                </a:cubicBezTo>
                <a:cubicBezTo>
                  <a:pt x="13419" y="15464"/>
                  <a:pt x="13407" y="15503"/>
                  <a:pt x="13370" y="15577"/>
                </a:cubicBezTo>
                <a:cubicBezTo>
                  <a:pt x="13452" y="15561"/>
                  <a:pt x="13530" y="15587"/>
                  <a:pt x="13469" y="15701"/>
                </a:cubicBezTo>
                <a:cubicBezTo>
                  <a:pt x="13421" y="15791"/>
                  <a:pt x="13368" y="15749"/>
                  <a:pt x="13320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2160" y="5330880"/>
            <a:ext cx="135000" cy="349200"/>
          </a:xfrm>
          <a:custGeom>
            <a:avLst/>
            <a:gdLst/>
            <a:ahLst/>
            <a:rect l="l" t="t" r="r" b="b"/>
            <a:pathLst>
              <a:path w="373" h="969">
                <a:moveTo>
                  <a:pt x="15106" y="14808"/>
                </a:moveTo>
                <a:cubicBezTo>
                  <a:pt x="15106" y="14836"/>
                  <a:pt x="15104" y="14847"/>
                  <a:pt x="15081" y="14858"/>
                </a:cubicBezTo>
                <a:cubicBezTo>
                  <a:pt x="15111" y="14927"/>
                  <a:pt x="15106" y="15000"/>
                  <a:pt x="15106" y="15081"/>
                </a:cubicBezTo>
                <a:cubicBezTo>
                  <a:pt x="15106" y="15130"/>
                  <a:pt x="15100" y="15136"/>
                  <a:pt x="15131" y="15156"/>
                </a:cubicBezTo>
              </a:path>
              <a:path w="373" h="969">
                <a:moveTo>
                  <a:pt x="15007" y="15553"/>
                </a:moveTo>
                <a:cubicBezTo>
                  <a:pt x="15042" y="15541"/>
                  <a:pt x="15032" y="15546"/>
                  <a:pt x="15032" y="15503"/>
                </a:cubicBezTo>
                <a:cubicBezTo>
                  <a:pt x="15055" y="15583"/>
                  <a:pt x="15044" y="15665"/>
                  <a:pt x="15056" y="15726"/>
                </a:cubicBezTo>
                <a:cubicBezTo>
                  <a:pt x="15068" y="15788"/>
                  <a:pt x="15098" y="15776"/>
                  <a:pt x="15156" y="15776"/>
                </a:cubicBezTo>
                <a:cubicBezTo>
                  <a:pt x="15224" y="15776"/>
                  <a:pt x="15312" y="15757"/>
                  <a:pt x="15354" y="15701"/>
                </a:cubicBezTo>
                <a:cubicBezTo>
                  <a:pt x="15366" y="15685"/>
                  <a:pt x="15374" y="15648"/>
                  <a:pt x="15379" y="15627"/>
                </a:cubicBezTo>
                <a:cubicBezTo>
                  <a:pt x="15304" y="15608"/>
                  <a:pt x="15282" y="15595"/>
                  <a:pt x="15255" y="15701"/>
                </a:cubicBezTo>
                <a:cubicBezTo>
                  <a:pt x="15255" y="15743"/>
                  <a:pt x="15255" y="15751"/>
                  <a:pt x="1525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2120" y="5357880"/>
            <a:ext cx="63720" cy="357120"/>
          </a:xfrm>
          <a:custGeom>
            <a:avLst/>
            <a:gdLst/>
            <a:ahLst/>
            <a:rect l="l" t="t" r="r" b="b"/>
            <a:pathLst>
              <a:path w="175" h="993">
                <a:moveTo>
                  <a:pt x="16867" y="14883"/>
                </a:moveTo>
                <a:cubicBezTo>
                  <a:pt x="16867" y="14968"/>
                  <a:pt x="16866" y="15053"/>
                  <a:pt x="16892" y="15131"/>
                </a:cubicBezTo>
                <a:cubicBezTo>
                  <a:pt x="16900" y="15147"/>
                  <a:pt x="16909" y="15164"/>
                  <a:pt x="16917" y="15180"/>
                </a:cubicBezTo>
              </a:path>
              <a:path w="175" h="993">
                <a:moveTo>
                  <a:pt x="16991" y="15528"/>
                </a:moveTo>
                <a:cubicBezTo>
                  <a:pt x="17050" y="15528"/>
                  <a:pt x="17030" y="15542"/>
                  <a:pt x="17041" y="15478"/>
                </a:cubicBezTo>
                <a:cubicBezTo>
                  <a:pt x="16987" y="15478"/>
                  <a:pt x="16956" y="15468"/>
                  <a:pt x="16917" y="15503"/>
                </a:cubicBezTo>
                <a:cubicBezTo>
                  <a:pt x="16884" y="15533"/>
                  <a:pt x="16875" y="15561"/>
                  <a:pt x="16867" y="15602"/>
                </a:cubicBezTo>
                <a:cubicBezTo>
                  <a:pt x="16917" y="15611"/>
                  <a:pt x="17005" y="15629"/>
                  <a:pt x="17041" y="15577"/>
                </a:cubicBezTo>
                <a:cubicBezTo>
                  <a:pt x="17044" y="15573"/>
                  <a:pt x="17041" y="15483"/>
                  <a:pt x="17041" y="15553"/>
                </a:cubicBezTo>
                <a:cubicBezTo>
                  <a:pt x="17029" y="15645"/>
                  <a:pt x="16996" y="15733"/>
                  <a:pt x="16991" y="15825"/>
                </a:cubicBezTo>
                <a:cubicBezTo>
                  <a:pt x="16991" y="15842"/>
                  <a:pt x="16991" y="15858"/>
                  <a:pt x="16991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160" y="5340240"/>
            <a:ext cx="260640" cy="401760"/>
          </a:xfrm>
          <a:custGeom>
            <a:avLst/>
            <a:gdLst/>
            <a:ahLst/>
            <a:rect l="l" t="t" r="r" b="b"/>
            <a:pathLst>
              <a:path w="721" h="1117">
                <a:moveTo>
                  <a:pt x="18455" y="14833"/>
                </a:moveTo>
                <a:cubicBezTo>
                  <a:pt x="18489" y="14879"/>
                  <a:pt x="18479" y="14998"/>
                  <a:pt x="18479" y="15081"/>
                </a:cubicBezTo>
                <a:cubicBezTo>
                  <a:pt x="18479" y="15106"/>
                  <a:pt x="18479" y="15114"/>
                  <a:pt x="18479" y="15131"/>
                </a:cubicBezTo>
              </a:path>
              <a:path w="721" h="1117">
                <a:moveTo>
                  <a:pt x="18703" y="15503"/>
                </a:moveTo>
                <a:cubicBezTo>
                  <a:pt x="18629" y="15466"/>
                  <a:pt x="18616" y="15429"/>
                  <a:pt x="18529" y="15429"/>
                </a:cubicBezTo>
                <a:cubicBezTo>
                  <a:pt x="18478" y="15429"/>
                  <a:pt x="18443" y="15567"/>
                  <a:pt x="18479" y="15602"/>
                </a:cubicBezTo>
                <a:cubicBezTo>
                  <a:pt x="18527" y="15650"/>
                  <a:pt x="18624" y="15641"/>
                  <a:pt x="18653" y="15577"/>
                </a:cubicBezTo>
                <a:cubicBezTo>
                  <a:pt x="18653" y="15569"/>
                  <a:pt x="18653" y="15561"/>
                  <a:pt x="18653" y="15553"/>
                </a:cubicBezTo>
                <a:cubicBezTo>
                  <a:pt x="18693" y="15632"/>
                  <a:pt x="18678" y="15730"/>
                  <a:pt x="18678" y="15825"/>
                </a:cubicBezTo>
                <a:cubicBezTo>
                  <a:pt x="18678" y="15833"/>
                  <a:pt x="18678" y="15842"/>
                  <a:pt x="18678" y="15850"/>
                </a:cubicBezTo>
              </a:path>
              <a:path w="721" h="1117">
                <a:moveTo>
                  <a:pt x="18107" y="15577"/>
                </a:moveTo>
                <a:cubicBezTo>
                  <a:pt x="18107" y="15519"/>
                  <a:pt x="18124" y="15643"/>
                  <a:pt x="18132" y="15701"/>
                </a:cubicBezTo>
                <a:cubicBezTo>
                  <a:pt x="18132" y="15743"/>
                  <a:pt x="18132" y="15751"/>
                  <a:pt x="18132" y="15776"/>
                </a:cubicBezTo>
              </a:path>
              <a:path w="721" h="1117">
                <a:moveTo>
                  <a:pt x="18405" y="15503"/>
                </a:moveTo>
                <a:cubicBezTo>
                  <a:pt x="18424" y="15559"/>
                  <a:pt x="18462" y="15516"/>
                  <a:pt x="18504" y="15503"/>
                </a:cubicBezTo>
                <a:cubicBezTo>
                  <a:pt x="18615" y="15470"/>
                  <a:pt x="18598" y="15603"/>
                  <a:pt x="18579" y="15652"/>
                </a:cubicBezTo>
                <a:cubicBezTo>
                  <a:pt x="18556" y="15712"/>
                  <a:pt x="18504" y="15766"/>
                  <a:pt x="18455" y="15801"/>
                </a:cubicBezTo>
                <a:cubicBezTo>
                  <a:pt x="18514" y="15845"/>
                  <a:pt x="18556" y="15819"/>
                  <a:pt x="18628" y="15801"/>
                </a:cubicBezTo>
                <a:cubicBezTo>
                  <a:pt x="18701" y="15782"/>
                  <a:pt x="18767" y="15781"/>
                  <a:pt x="18827" y="15751"/>
                </a:cubicBezTo>
              </a:path>
              <a:path w="721" h="1117">
                <a:moveTo>
                  <a:pt x="18405" y="15553"/>
                </a:moveTo>
                <a:cubicBezTo>
                  <a:pt x="18472" y="15539"/>
                  <a:pt x="18558" y="15475"/>
                  <a:pt x="18628" y="15478"/>
                </a:cubicBezTo>
                <a:cubicBezTo>
                  <a:pt x="18645" y="15486"/>
                  <a:pt x="18661" y="15495"/>
                  <a:pt x="18678" y="15503"/>
                </a:cubicBezTo>
                <a:cubicBezTo>
                  <a:pt x="18678" y="15640"/>
                  <a:pt x="18598" y="15682"/>
                  <a:pt x="18504" y="15776"/>
                </a:cubicBezTo>
                <a:cubicBezTo>
                  <a:pt x="18496" y="15784"/>
                  <a:pt x="18487" y="15793"/>
                  <a:pt x="18479" y="15801"/>
                </a:cubicBezTo>
                <a:cubicBezTo>
                  <a:pt x="18582" y="15801"/>
                  <a:pt x="18656" y="15770"/>
                  <a:pt x="18752" y="15751"/>
                </a:cubicBezTo>
                <a:cubicBezTo>
                  <a:pt x="18769" y="15751"/>
                  <a:pt x="18785" y="15751"/>
                  <a:pt x="18802" y="15751"/>
                </a:cubicBezTo>
              </a:path>
              <a:path w="721" h="1117">
                <a:moveTo>
                  <a:pt x="18207" y="15602"/>
                </a:moveTo>
                <a:cubicBezTo>
                  <a:pt x="18237" y="15710"/>
                  <a:pt x="18263" y="15812"/>
                  <a:pt x="18281" y="15925"/>
                </a:cubicBezTo>
                <a:cubicBezTo>
                  <a:pt x="18281" y="15933"/>
                  <a:pt x="18281" y="15941"/>
                  <a:pt x="1828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2960" y="5589720"/>
            <a:ext cx="204840" cy="152280"/>
          </a:xfrm>
          <a:custGeom>
            <a:avLst/>
            <a:gdLst/>
            <a:ahLst/>
            <a:rect l="l" t="t" r="r" b="b"/>
            <a:pathLst>
              <a:path w="571" h="422">
                <a:moveTo>
                  <a:pt x="8310" y="15627"/>
                </a:moveTo>
                <a:cubicBezTo>
                  <a:pt x="8247" y="15627"/>
                  <a:pt x="8420" y="15627"/>
                  <a:pt x="8458" y="15627"/>
                </a:cubicBezTo>
                <a:cubicBezTo>
                  <a:pt x="8502" y="15627"/>
                  <a:pt x="8498" y="15626"/>
                  <a:pt x="8533" y="15652"/>
                </a:cubicBezTo>
              </a:path>
              <a:path w="571" h="422">
                <a:moveTo>
                  <a:pt x="8731" y="15528"/>
                </a:moveTo>
                <a:cubicBezTo>
                  <a:pt x="8713" y="15617"/>
                  <a:pt x="8671" y="15707"/>
                  <a:pt x="8657" y="15801"/>
                </a:cubicBezTo>
                <a:cubicBezTo>
                  <a:pt x="8648" y="15861"/>
                  <a:pt x="8656" y="15914"/>
                  <a:pt x="8731" y="15900"/>
                </a:cubicBezTo>
                <a:cubicBezTo>
                  <a:pt x="8821" y="15884"/>
                  <a:pt x="8858" y="15819"/>
                  <a:pt x="8830" y="15751"/>
                </a:cubicBezTo>
                <a:cubicBezTo>
                  <a:pt x="8761" y="15779"/>
                  <a:pt x="8744" y="15834"/>
                  <a:pt x="8731" y="15900"/>
                </a:cubicBezTo>
                <a:cubicBezTo>
                  <a:pt x="8731" y="15916"/>
                  <a:pt x="8731" y="15933"/>
                  <a:pt x="873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920" y="5340240"/>
            <a:ext cx="214200" cy="37476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10096" y="14858"/>
                </a:moveTo>
                <a:cubicBezTo>
                  <a:pt x="10104" y="14850"/>
                  <a:pt x="10112" y="14841"/>
                  <a:pt x="10120" y="14833"/>
                </a:cubicBezTo>
                <a:cubicBezTo>
                  <a:pt x="10120" y="14926"/>
                  <a:pt x="10140" y="15014"/>
                  <a:pt x="10145" y="15106"/>
                </a:cubicBezTo>
                <a:cubicBezTo>
                  <a:pt x="10145" y="15131"/>
                  <a:pt x="10145" y="15139"/>
                  <a:pt x="10145" y="15156"/>
                </a:cubicBezTo>
              </a:path>
              <a:path w="596" h="1043">
                <a:moveTo>
                  <a:pt x="9773" y="15701"/>
                </a:moveTo>
                <a:cubicBezTo>
                  <a:pt x="9773" y="15693"/>
                  <a:pt x="9773" y="15685"/>
                  <a:pt x="9773" y="15677"/>
                </a:cubicBezTo>
                <a:cubicBezTo>
                  <a:pt x="9818" y="15677"/>
                  <a:pt x="9833" y="15662"/>
                  <a:pt x="9872" y="15652"/>
                </a:cubicBezTo>
              </a:path>
              <a:path w="596" h="1043">
                <a:moveTo>
                  <a:pt x="10170" y="15478"/>
                </a:moveTo>
                <a:cubicBezTo>
                  <a:pt x="10130" y="15491"/>
                  <a:pt x="10160" y="15490"/>
                  <a:pt x="10120" y="15503"/>
                </a:cubicBezTo>
                <a:cubicBezTo>
                  <a:pt x="10132" y="15494"/>
                  <a:pt x="10239" y="15433"/>
                  <a:pt x="10244" y="15453"/>
                </a:cubicBezTo>
                <a:cubicBezTo>
                  <a:pt x="10244" y="15543"/>
                  <a:pt x="10251" y="15569"/>
                  <a:pt x="10195" y="15602"/>
                </a:cubicBezTo>
                <a:cubicBezTo>
                  <a:pt x="10250" y="15602"/>
                  <a:pt x="10380" y="15615"/>
                  <a:pt x="10368" y="15701"/>
                </a:cubicBezTo>
                <a:cubicBezTo>
                  <a:pt x="10359" y="15766"/>
                  <a:pt x="10235" y="15951"/>
                  <a:pt x="10145" y="15875"/>
                </a:cubicBezTo>
                <a:cubicBezTo>
                  <a:pt x="10145" y="15850"/>
                  <a:pt x="10145" y="15842"/>
                  <a:pt x="1012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5320" y="5616720"/>
            <a:ext cx="160560" cy="80640"/>
          </a:xfrm>
          <a:custGeom>
            <a:avLst/>
            <a:gdLst/>
            <a:ahLst/>
            <a:rect l="l" t="t" r="r" b="b"/>
            <a:pathLst>
              <a:path w="447" h="224">
                <a:moveTo>
                  <a:pt x="4986" y="15726"/>
                </a:moveTo>
                <a:cubicBezTo>
                  <a:pt x="5043" y="15683"/>
                  <a:pt x="5042" y="15709"/>
                  <a:pt x="5110" y="15726"/>
                </a:cubicBezTo>
                <a:cubicBezTo>
                  <a:pt x="5161" y="15726"/>
                  <a:pt x="5194" y="15720"/>
                  <a:pt x="5234" y="15701"/>
                </a:cubicBezTo>
              </a:path>
              <a:path w="447" h="224">
                <a:moveTo>
                  <a:pt x="5383" y="15602"/>
                </a:moveTo>
                <a:cubicBezTo>
                  <a:pt x="5394" y="15678"/>
                  <a:pt x="5401" y="15763"/>
                  <a:pt x="5432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7800" y="5340240"/>
            <a:ext cx="108000" cy="339840"/>
          </a:xfrm>
          <a:custGeom>
            <a:avLst/>
            <a:gdLst/>
            <a:ahLst/>
            <a:rect l="l" t="t" r="r" b="b"/>
            <a:pathLst>
              <a:path w="299" h="944">
                <a:moveTo>
                  <a:pt x="5680" y="14858"/>
                </a:moveTo>
                <a:cubicBezTo>
                  <a:pt x="5680" y="14790"/>
                  <a:pt x="5680" y="15003"/>
                  <a:pt x="5680" y="15032"/>
                </a:cubicBezTo>
                <a:cubicBezTo>
                  <a:pt x="5680" y="15081"/>
                  <a:pt x="5680" y="15131"/>
                  <a:pt x="5680" y="15180"/>
                </a:cubicBezTo>
              </a:path>
              <a:path w="299" h="944">
                <a:moveTo>
                  <a:pt x="5606" y="15528"/>
                </a:moveTo>
                <a:cubicBezTo>
                  <a:pt x="5653" y="15508"/>
                  <a:pt x="5709" y="15475"/>
                  <a:pt x="5730" y="15528"/>
                </a:cubicBezTo>
                <a:cubicBezTo>
                  <a:pt x="5770" y="15629"/>
                  <a:pt x="5728" y="15668"/>
                  <a:pt x="5680" y="15751"/>
                </a:cubicBezTo>
                <a:cubicBezTo>
                  <a:pt x="5749" y="15774"/>
                  <a:pt x="5804" y="15776"/>
                  <a:pt x="5879" y="15776"/>
                </a:cubicBezTo>
                <a:cubicBezTo>
                  <a:pt x="5887" y="15776"/>
                  <a:pt x="5896" y="15776"/>
                  <a:pt x="5904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9200" y="5348160"/>
            <a:ext cx="216000" cy="34920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7218" y="14858"/>
                </a:moveTo>
                <a:cubicBezTo>
                  <a:pt x="7218" y="14957"/>
                  <a:pt x="7225" y="15039"/>
                  <a:pt x="7243" y="15131"/>
                </a:cubicBezTo>
                <a:cubicBezTo>
                  <a:pt x="7243" y="15156"/>
                  <a:pt x="7243" y="15164"/>
                  <a:pt x="7243" y="15180"/>
                </a:cubicBezTo>
              </a:path>
              <a:path w="596" h="968">
                <a:moveTo>
                  <a:pt x="6722" y="15652"/>
                </a:moveTo>
                <a:cubicBezTo>
                  <a:pt x="6772" y="15652"/>
                  <a:pt x="6821" y="15652"/>
                  <a:pt x="6871" y="15652"/>
                </a:cubicBezTo>
              </a:path>
              <a:path w="596" h="968">
                <a:moveTo>
                  <a:pt x="7293" y="15528"/>
                </a:moveTo>
                <a:cubicBezTo>
                  <a:pt x="7286" y="15485"/>
                  <a:pt x="7238" y="15425"/>
                  <a:pt x="7169" y="15429"/>
                </a:cubicBezTo>
                <a:cubicBezTo>
                  <a:pt x="7076" y="15434"/>
                  <a:pt x="7075" y="15541"/>
                  <a:pt x="7069" y="15602"/>
                </a:cubicBezTo>
                <a:cubicBezTo>
                  <a:pt x="7146" y="15593"/>
                  <a:pt x="7247" y="15579"/>
                  <a:pt x="7293" y="15503"/>
                </a:cubicBezTo>
                <a:cubicBezTo>
                  <a:pt x="7295" y="15499"/>
                  <a:pt x="7293" y="15408"/>
                  <a:pt x="7293" y="15478"/>
                </a:cubicBezTo>
                <a:cubicBezTo>
                  <a:pt x="7293" y="15529"/>
                  <a:pt x="7255" y="15804"/>
                  <a:pt x="731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8960" y="509904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8706" y="14784"/>
                </a:moveTo>
                <a:cubicBezTo>
                  <a:pt x="8706" y="14862"/>
                  <a:pt x="8664" y="15158"/>
                  <a:pt x="8731" y="15180"/>
                </a:cubicBezTo>
              </a:path>
              <a:path w="596" h="1018">
                <a:moveTo>
                  <a:pt x="8136" y="14387"/>
                </a:moveTo>
                <a:cubicBezTo>
                  <a:pt x="8136" y="14486"/>
                  <a:pt x="8136" y="14585"/>
                  <a:pt x="8136" y="14684"/>
                </a:cubicBezTo>
                <a:cubicBezTo>
                  <a:pt x="8197" y="14677"/>
                  <a:pt x="8228" y="14663"/>
                  <a:pt x="8285" y="14635"/>
                </a:cubicBezTo>
              </a:path>
              <a:path w="596" h="1018">
                <a:moveTo>
                  <a:pt x="8161" y="14536"/>
                </a:moveTo>
                <a:cubicBezTo>
                  <a:pt x="8175" y="14501"/>
                  <a:pt x="8196" y="14471"/>
                  <a:pt x="8210" y="14436"/>
                </a:cubicBezTo>
                <a:cubicBezTo>
                  <a:pt x="8235" y="14436"/>
                  <a:pt x="8243" y="14436"/>
                  <a:pt x="8235" y="14412"/>
                </a:cubicBezTo>
              </a:path>
              <a:path w="596" h="1018">
                <a:moveTo>
                  <a:pt x="8136" y="14312"/>
                </a:moveTo>
                <a:cubicBezTo>
                  <a:pt x="8136" y="14250"/>
                  <a:pt x="8167" y="14232"/>
                  <a:pt x="8210" y="14188"/>
                </a:cubicBezTo>
                <a:cubicBezTo>
                  <a:pt x="8233" y="14165"/>
                  <a:pt x="8241" y="14154"/>
                  <a:pt x="8235" y="14188"/>
                </a:cubicBezTo>
              </a:path>
              <a:path w="596" h="1018">
                <a:moveTo>
                  <a:pt x="8161" y="15131"/>
                </a:moveTo>
                <a:cubicBezTo>
                  <a:pt x="8215" y="15113"/>
                  <a:pt x="8162" y="15100"/>
                  <a:pt x="8186" y="15056"/>
                </a:cubicBezTo>
                <a:cubicBezTo>
                  <a:pt x="8207" y="15018"/>
                  <a:pt x="8230" y="15022"/>
                  <a:pt x="8186" y="15007"/>
                </a:cubicBezTo>
                <a:cubicBezTo>
                  <a:pt x="8186" y="14974"/>
                  <a:pt x="8158" y="15073"/>
                  <a:pt x="8186" y="15056"/>
                </a:cubicBezTo>
                <a:cubicBezTo>
                  <a:pt x="8249" y="15018"/>
                  <a:pt x="8235" y="14991"/>
                  <a:pt x="8235" y="14932"/>
                </a:cubicBezTo>
                <a:cubicBezTo>
                  <a:pt x="8195" y="14942"/>
                  <a:pt x="8126" y="15005"/>
                  <a:pt x="8161" y="15056"/>
                </a:cubicBezTo>
                <a:cubicBezTo>
                  <a:pt x="8229" y="15156"/>
                  <a:pt x="8262" y="14953"/>
                  <a:pt x="8260" y="14932"/>
                </a:cubicBezTo>
                <a:cubicBezTo>
                  <a:pt x="8221" y="14961"/>
                  <a:pt x="8210" y="14998"/>
                  <a:pt x="8210" y="15056"/>
                </a:cubicBezTo>
                <a:cubicBezTo>
                  <a:pt x="8260" y="15031"/>
                  <a:pt x="8309" y="14931"/>
                  <a:pt x="8235" y="14883"/>
                </a:cubicBezTo>
                <a:cubicBezTo>
                  <a:pt x="8209" y="14866"/>
                  <a:pt x="8208" y="14935"/>
                  <a:pt x="8186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5840" y="3840120"/>
            <a:ext cx="9360" cy="133560"/>
          </a:xfrm>
          <a:custGeom>
            <a:avLst/>
            <a:gdLst/>
            <a:ahLst/>
            <a:rect l="l" t="t" r="r" b="b"/>
            <a:pathLst>
              <a:path w="25" h="373">
                <a:moveTo>
                  <a:pt x="7317" y="10691"/>
                </a:moveTo>
                <a:cubicBezTo>
                  <a:pt x="7317" y="10653"/>
                  <a:pt x="7295" y="10928"/>
                  <a:pt x="7293" y="10988"/>
                </a:cubicBezTo>
                <a:cubicBezTo>
                  <a:pt x="7293" y="11013"/>
                  <a:pt x="7293" y="11021"/>
                  <a:pt x="729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4880" y="3840120"/>
            <a:ext cx="169920" cy="392040"/>
          </a:xfrm>
          <a:custGeom>
            <a:avLst/>
            <a:gdLst/>
            <a:ahLst/>
            <a:rect l="l" t="t" r="r" b="b"/>
            <a:pathLst>
              <a:path w="473" h="1092">
                <a:moveTo>
                  <a:pt x="8855" y="10691"/>
                </a:moveTo>
                <a:cubicBezTo>
                  <a:pt x="8855" y="10648"/>
                  <a:pt x="8855" y="10888"/>
                  <a:pt x="8855" y="10939"/>
                </a:cubicBezTo>
                <a:cubicBezTo>
                  <a:pt x="8855" y="10980"/>
                  <a:pt x="8855" y="10988"/>
                  <a:pt x="8855" y="11013"/>
                </a:cubicBezTo>
              </a:path>
              <a:path w="473" h="1092">
                <a:moveTo>
                  <a:pt x="8458" y="11509"/>
                </a:moveTo>
                <a:cubicBezTo>
                  <a:pt x="8491" y="11509"/>
                  <a:pt x="8525" y="11509"/>
                  <a:pt x="8558" y="11509"/>
                </a:cubicBezTo>
              </a:path>
              <a:path w="473" h="1092">
                <a:moveTo>
                  <a:pt x="8781" y="11385"/>
                </a:moveTo>
                <a:cubicBezTo>
                  <a:pt x="8781" y="11446"/>
                  <a:pt x="8775" y="11479"/>
                  <a:pt x="8756" y="11534"/>
                </a:cubicBezTo>
                <a:cubicBezTo>
                  <a:pt x="8807" y="11534"/>
                  <a:pt x="8905" y="11544"/>
                  <a:pt x="8930" y="11485"/>
                </a:cubicBezTo>
                <a:cubicBezTo>
                  <a:pt x="8930" y="11468"/>
                  <a:pt x="8930" y="11452"/>
                  <a:pt x="8930" y="11435"/>
                </a:cubicBezTo>
              </a:path>
              <a:path w="473" h="1092">
                <a:moveTo>
                  <a:pt x="8880" y="11311"/>
                </a:moveTo>
                <a:cubicBezTo>
                  <a:pt x="8832" y="11454"/>
                  <a:pt x="8830" y="11582"/>
                  <a:pt x="8830" y="11733"/>
                </a:cubicBezTo>
                <a:cubicBezTo>
                  <a:pt x="8830" y="11741"/>
                  <a:pt x="8830" y="11749"/>
                  <a:pt x="8830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5920" y="3510000"/>
            <a:ext cx="169920" cy="438120"/>
          </a:xfrm>
          <a:custGeom>
            <a:avLst/>
            <a:gdLst/>
            <a:ahLst/>
            <a:rect l="l" t="t" r="r" b="b"/>
            <a:pathLst>
              <a:path w="472" h="1217">
                <a:moveTo>
                  <a:pt x="10220" y="10641"/>
                </a:moveTo>
                <a:cubicBezTo>
                  <a:pt x="10186" y="10686"/>
                  <a:pt x="10175" y="10828"/>
                  <a:pt x="10170" y="10914"/>
                </a:cubicBezTo>
                <a:cubicBezTo>
                  <a:pt x="10170" y="10939"/>
                  <a:pt x="10170" y="10947"/>
                  <a:pt x="10170" y="10964"/>
                </a:cubicBezTo>
              </a:path>
              <a:path w="472" h="1217">
                <a:moveTo>
                  <a:pt x="10269" y="9847"/>
                </a:moveTo>
                <a:cubicBezTo>
                  <a:pt x="10333" y="9826"/>
                  <a:pt x="10256" y="9792"/>
                  <a:pt x="10220" y="9773"/>
                </a:cubicBezTo>
                <a:cubicBezTo>
                  <a:pt x="10203" y="9765"/>
                  <a:pt x="10187" y="9756"/>
                  <a:pt x="10170" y="9748"/>
                </a:cubicBezTo>
                <a:cubicBezTo>
                  <a:pt x="10067" y="9864"/>
                  <a:pt x="10005" y="10090"/>
                  <a:pt x="10120" y="10244"/>
                </a:cubicBezTo>
                <a:cubicBezTo>
                  <a:pt x="10224" y="10383"/>
                  <a:pt x="10435" y="10218"/>
                  <a:pt x="10492" y="10120"/>
                </a:cubicBezTo>
                <a:cubicBezTo>
                  <a:pt x="10512" y="10086"/>
                  <a:pt x="10506" y="10099"/>
                  <a:pt x="10542" y="10046"/>
                </a:cubicBezTo>
              </a:path>
              <a:path w="472" h="1217">
                <a:moveTo>
                  <a:pt x="10220" y="10815"/>
                </a:moveTo>
                <a:cubicBezTo>
                  <a:pt x="10185" y="10815"/>
                  <a:pt x="10167" y="10810"/>
                  <a:pt x="10145" y="10790"/>
                </a:cubicBezTo>
                <a:cubicBezTo>
                  <a:pt x="10145" y="10944"/>
                  <a:pt x="10255" y="10795"/>
                  <a:pt x="10220" y="10740"/>
                </a:cubicBezTo>
                <a:cubicBezTo>
                  <a:pt x="10187" y="10688"/>
                  <a:pt x="10078" y="10790"/>
                  <a:pt x="10120" y="10840"/>
                </a:cubicBezTo>
                <a:cubicBezTo>
                  <a:pt x="10164" y="10861"/>
                  <a:pt x="10175" y="10874"/>
                  <a:pt x="10195" y="10840"/>
                </a:cubicBezTo>
                <a:cubicBezTo>
                  <a:pt x="10226" y="10736"/>
                  <a:pt x="10187" y="10712"/>
                  <a:pt x="10170" y="10790"/>
                </a:cubicBezTo>
                <a:cubicBezTo>
                  <a:pt x="10170" y="10798"/>
                  <a:pt x="10170" y="10807"/>
                  <a:pt x="10170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27160" y="3840120"/>
            <a:ext cx="1800" cy="125280"/>
          </a:xfrm>
          <a:custGeom>
            <a:avLst/>
            <a:gdLst/>
            <a:ahLst/>
            <a:rect l="l" t="t" r="r" b="b"/>
            <a:pathLst>
              <a:path w="1" h="348">
                <a:moveTo>
                  <a:pt x="5631" y="10666"/>
                </a:moveTo>
                <a:cubicBezTo>
                  <a:pt x="5631" y="10782"/>
                  <a:pt x="5631" y="10897"/>
                  <a:pt x="5631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14840" y="2517840"/>
            <a:ext cx="17280" cy="376200"/>
          </a:xfrm>
          <a:custGeom>
            <a:avLst/>
            <a:gdLst/>
            <a:ahLst/>
            <a:rect l="l" t="t" r="r" b="b"/>
            <a:pathLst>
              <a:path w="50" h="1043">
                <a:moveTo>
                  <a:pt x="10368" y="6995"/>
                </a:moveTo>
                <a:cubicBezTo>
                  <a:pt x="10350" y="7050"/>
                  <a:pt x="10344" y="7019"/>
                  <a:pt x="10344" y="7119"/>
                </a:cubicBezTo>
                <a:cubicBezTo>
                  <a:pt x="10344" y="7193"/>
                  <a:pt x="10344" y="7268"/>
                  <a:pt x="10344" y="7342"/>
                </a:cubicBezTo>
              </a:path>
              <a:path w="50" h="1043">
                <a:moveTo>
                  <a:pt x="10319" y="7714"/>
                </a:moveTo>
                <a:cubicBezTo>
                  <a:pt x="10343" y="7824"/>
                  <a:pt x="10344" y="7938"/>
                  <a:pt x="10319" y="8012"/>
                </a:cubicBezTo>
                <a:cubicBezTo>
                  <a:pt x="10319" y="8020"/>
                  <a:pt x="10319" y="8029"/>
                  <a:pt x="1031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284796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723" y="7938"/>
                </a:moveTo>
                <a:cubicBezTo>
                  <a:pt x="9814" y="7938"/>
                  <a:pt x="9884" y="7929"/>
                  <a:pt x="9971" y="7913"/>
                </a:cubicBezTo>
                <a:cubicBezTo>
                  <a:pt x="9979" y="7913"/>
                  <a:pt x="9988" y="7913"/>
                  <a:pt x="999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1880" y="2536920"/>
            <a:ext cx="142920" cy="34740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8806" y="7094"/>
                </a:moveTo>
                <a:cubicBezTo>
                  <a:pt x="8806" y="7066"/>
                  <a:pt x="8808" y="7056"/>
                  <a:pt x="8830" y="7045"/>
                </a:cubicBezTo>
                <a:cubicBezTo>
                  <a:pt x="8830" y="7128"/>
                  <a:pt x="8830" y="7210"/>
                  <a:pt x="8830" y="7293"/>
                </a:cubicBezTo>
              </a:path>
              <a:path w="398" h="968">
                <a:moveTo>
                  <a:pt x="8533" y="7863"/>
                </a:moveTo>
                <a:cubicBezTo>
                  <a:pt x="8590" y="7863"/>
                  <a:pt x="8629" y="7843"/>
                  <a:pt x="8682" y="7838"/>
                </a:cubicBezTo>
                <a:cubicBezTo>
                  <a:pt x="8690" y="7838"/>
                  <a:pt x="8698" y="7838"/>
                  <a:pt x="8706" y="7838"/>
                </a:cubicBezTo>
              </a:path>
              <a:path w="398" h="968">
                <a:moveTo>
                  <a:pt x="8806" y="7689"/>
                </a:moveTo>
                <a:cubicBezTo>
                  <a:pt x="8829" y="7650"/>
                  <a:pt x="8828" y="7633"/>
                  <a:pt x="8855" y="7615"/>
                </a:cubicBezTo>
                <a:cubicBezTo>
                  <a:pt x="8917" y="7697"/>
                  <a:pt x="8867" y="7775"/>
                  <a:pt x="8830" y="7863"/>
                </a:cubicBezTo>
                <a:cubicBezTo>
                  <a:pt x="8805" y="7924"/>
                  <a:pt x="8784" y="7969"/>
                  <a:pt x="8806" y="8012"/>
                </a:cubicBezTo>
                <a:cubicBezTo>
                  <a:pt x="8849" y="7985"/>
                  <a:pt x="8889" y="7954"/>
                  <a:pt x="8930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4200" y="2143080"/>
            <a:ext cx="177840" cy="758880"/>
          </a:xfrm>
          <a:custGeom>
            <a:avLst/>
            <a:gdLst/>
            <a:ahLst/>
            <a:rect l="l" t="t" r="r" b="b"/>
            <a:pathLst>
              <a:path w="497" h="2110">
                <a:moveTo>
                  <a:pt x="7392" y="7119"/>
                </a:moveTo>
                <a:cubicBezTo>
                  <a:pt x="7379" y="7081"/>
                  <a:pt x="7367" y="7098"/>
                  <a:pt x="7367" y="7045"/>
                </a:cubicBezTo>
                <a:cubicBezTo>
                  <a:pt x="7317" y="7126"/>
                  <a:pt x="7362" y="7243"/>
                  <a:pt x="7367" y="7342"/>
                </a:cubicBezTo>
                <a:cubicBezTo>
                  <a:pt x="7367" y="7350"/>
                  <a:pt x="7367" y="7359"/>
                  <a:pt x="7367" y="7367"/>
                </a:cubicBezTo>
              </a:path>
              <a:path w="497" h="2110">
                <a:moveTo>
                  <a:pt x="7094" y="7938"/>
                </a:moveTo>
                <a:cubicBezTo>
                  <a:pt x="7142" y="7938"/>
                  <a:pt x="7204" y="7915"/>
                  <a:pt x="7243" y="7888"/>
                </a:cubicBezTo>
                <a:cubicBezTo>
                  <a:pt x="7260" y="7871"/>
                  <a:pt x="7276" y="7855"/>
                  <a:pt x="7293" y="7838"/>
                </a:cubicBezTo>
              </a:path>
              <a:path w="497" h="2110">
                <a:moveTo>
                  <a:pt x="7417" y="7739"/>
                </a:moveTo>
                <a:cubicBezTo>
                  <a:pt x="7443" y="7719"/>
                  <a:pt x="7521" y="7677"/>
                  <a:pt x="7516" y="7764"/>
                </a:cubicBezTo>
                <a:cubicBezTo>
                  <a:pt x="7512" y="7823"/>
                  <a:pt x="7459" y="7836"/>
                  <a:pt x="7516" y="7863"/>
                </a:cubicBezTo>
                <a:cubicBezTo>
                  <a:pt x="7603" y="7904"/>
                  <a:pt x="7614" y="8016"/>
                  <a:pt x="7516" y="8062"/>
                </a:cubicBezTo>
                <a:cubicBezTo>
                  <a:pt x="7474" y="8062"/>
                  <a:pt x="7466" y="8062"/>
                  <a:pt x="7441" y="8062"/>
                </a:cubicBezTo>
              </a:path>
              <a:path w="497" h="2110">
                <a:moveTo>
                  <a:pt x="7293" y="6251"/>
                </a:moveTo>
                <a:cubicBezTo>
                  <a:pt x="7216" y="6200"/>
                  <a:pt x="7291" y="6479"/>
                  <a:pt x="7293" y="6499"/>
                </a:cubicBezTo>
                <a:cubicBezTo>
                  <a:pt x="7296" y="6540"/>
                  <a:pt x="7293" y="6614"/>
                  <a:pt x="7293" y="6573"/>
                </a:cubicBezTo>
                <a:cubicBezTo>
                  <a:pt x="7222" y="6361"/>
                  <a:pt x="7246" y="6204"/>
                  <a:pt x="7367" y="6003"/>
                </a:cubicBezTo>
                <a:cubicBezTo>
                  <a:pt x="7384" y="5986"/>
                  <a:pt x="7400" y="5970"/>
                  <a:pt x="7417" y="5953"/>
                </a:cubicBezTo>
                <a:cubicBezTo>
                  <a:pt x="7443" y="6066"/>
                  <a:pt x="7510" y="6222"/>
                  <a:pt x="7417" y="6325"/>
                </a:cubicBezTo>
                <a:cubicBezTo>
                  <a:pt x="7409" y="6325"/>
                  <a:pt x="7400" y="6325"/>
                  <a:pt x="7392" y="6325"/>
                </a:cubicBezTo>
                <a:cubicBezTo>
                  <a:pt x="7405" y="6285"/>
                  <a:pt x="7469" y="6285"/>
                  <a:pt x="7491" y="6350"/>
                </a:cubicBezTo>
                <a:cubicBezTo>
                  <a:pt x="7525" y="6451"/>
                  <a:pt x="7417" y="6556"/>
                  <a:pt x="7342" y="6598"/>
                </a:cubicBezTo>
                <a:cubicBezTo>
                  <a:pt x="7317" y="6598"/>
                  <a:pt x="7309" y="6598"/>
                  <a:pt x="7293" y="6598"/>
                </a:cubicBezTo>
              </a:path>
              <a:path w="497" h="2110">
                <a:moveTo>
                  <a:pt x="7342" y="7193"/>
                </a:moveTo>
                <a:cubicBezTo>
                  <a:pt x="7342" y="7185"/>
                  <a:pt x="7342" y="7177"/>
                  <a:pt x="7342" y="7169"/>
                </a:cubicBezTo>
                <a:cubicBezTo>
                  <a:pt x="7321" y="7128"/>
                  <a:pt x="7299" y="7188"/>
                  <a:pt x="7342" y="7193"/>
                </a:cubicBezTo>
                <a:cubicBezTo>
                  <a:pt x="7403" y="7200"/>
                  <a:pt x="7426" y="7069"/>
                  <a:pt x="7342" y="7069"/>
                </a:cubicBezTo>
                <a:cubicBezTo>
                  <a:pt x="7304" y="7069"/>
                  <a:pt x="7227" y="7311"/>
                  <a:pt x="7367" y="7193"/>
                </a:cubicBezTo>
                <a:cubicBezTo>
                  <a:pt x="7384" y="7168"/>
                  <a:pt x="7400" y="7144"/>
                  <a:pt x="7417" y="7119"/>
                </a:cubicBezTo>
                <a:cubicBezTo>
                  <a:pt x="7371" y="7050"/>
                  <a:pt x="7344" y="7135"/>
                  <a:pt x="7367" y="7193"/>
                </a:cubicBezTo>
                <a:cubicBezTo>
                  <a:pt x="7392" y="7218"/>
                  <a:pt x="7400" y="7226"/>
                  <a:pt x="7417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1880" y="253692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5655" y="7069"/>
                </a:moveTo>
                <a:cubicBezTo>
                  <a:pt x="5655" y="6999"/>
                  <a:pt x="5655" y="7251"/>
                  <a:pt x="5655" y="7268"/>
                </a:cubicBezTo>
                <a:cubicBezTo>
                  <a:pt x="5655" y="7377"/>
                  <a:pt x="5662" y="7346"/>
                  <a:pt x="5680" y="7417"/>
                </a:cubicBezTo>
              </a:path>
              <a:path w="547" h="1067">
                <a:moveTo>
                  <a:pt x="5283" y="7987"/>
                </a:moveTo>
                <a:cubicBezTo>
                  <a:pt x="5283" y="7979"/>
                  <a:pt x="5283" y="7970"/>
                  <a:pt x="5283" y="7962"/>
                </a:cubicBezTo>
                <a:cubicBezTo>
                  <a:pt x="5355" y="7962"/>
                  <a:pt x="5392" y="7945"/>
                  <a:pt x="5457" y="7913"/>
                </a:cubicBezTo>
              </a:path>
              <a:path w="547" h="1067">
                <a:moveTo>
                  <a:pt x="5606" y="7813"/>
                </a:moveTo>
                <a:cubicBezTo>
                  <a:pt x="5615" y="7857"/>
                  <a:pt x="5625" y="7892"/>
                  <a:pt x="5631" y="7938"/>
                </a:cubicBezTo>
                <a:cubicBezTo>
                  <a:pt x="5716" y="7899"/>
                  <a:pt x="5731" y="7892"/>
                  <a:pt x="5779" y="7813"/>
                </a:cubicBezTo>
              </a:path>
              <a:path w="547" h="1067">
                <a:moveTo>
                  <a:pt x="5755" y="7689"/>
                </a:moveTo>
                <a:cubicBezTo>
                  <a:pt x="5773" y="7821"/>
                  <a:pt x="5808" y="7953"/>
                  <a:pt x="5829" y="8086"/>
                </a:cubicBezTo>
                <a:cubicBezTo>
                  <a:pt x="5829" y="8094"/>
                  <a:pt x="5829" y="8103"/>
                  <a:pt x="5829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7880" y="4044960"/>
            <a:ext cx="322200" cy="196920"/>
          </a:xfrm>
          <a:custGeom>
            <a:avLst/>
            <a:gdLst/>
            <a:ahLst/>
            <a:rect l="l" t="t" r="r" b="b"/>
            <a:pathLst>
              <a:path w="894" h="546">
                <a:moveTo>
                  <a:pt x="5135" y="11385"/>
                </a:moveTo>
                <a:cubicBezTo>
                  <a:pt x="5199" y="11385"/>
                  <a:pt x="5241" y="11404"/>
                  <a:pt x="5308" y="11410"/>
                </a:cubicBezTo>
                <a:cubicBezTo>
                  <a:pt x="5364" y="11415"/>
                  <a:pt x="5465" y="11384"/>
                  <a:pt x="5482" y="11435"/>
                </a:cubicBezTo>
              </a:path>
              <a:path w="894" h="546">
                <a:moveTo>
                  <a:pt x="6028" y="11261"/>
                </a:moveTo>
                <a:cubicBezTo>
                  <a:pt x="5929" y="11229"/>
                  <a:pt x="5829" y="11301"/>
                  <a:pt x="5755" y="11385"/>
                </a:cubicBezTo>
                <a:cubicBezTo>
                  <a:pt x="5629" y="11528"/>
                  <a:pt x="5802" y="11529"/>
                  <a:pt x="5879" y="11633"/>
                </a:cubicBezTo>
                <a:cubicBezTo>
                  <a:pt x="5956" y="11736"/>
                  <a:pt x="5846" y="11752"/>
                  <a:pt x="5779" y="11782"/>
                </a:cubicBezTo>
                <a:cubicBezTo>
                  <a:pt x="5719" y="11699"/>
                  <a:pt x="5782" y="11596"/>
                  <a:pt x="5854" y="11509"/>
                </a:cubicBezTo>
                <a:cubicBezTo>
                  <a:pt x="5918" y="11432"/>
                  <a:pt x="5935" y="11428"/>
                  <a:pt x="5953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70800" y="3830760"/>
            <a:ext cx="133200" cy="401400"/>
          </a:xfrm>
          <a:custGeom>
            <a:avLst/>
            <a:gdLst/>
            <a:ahLst/>
            <a:rect l="l" t="t" r="r" b="b"/>
            <a:pathLst>
              <a:path w="373" h="1117">
                <a:moveTo>
                  <a:pt x="18529" y="10641"/>
                </a:moveTo>
                <a:cubicBezTo>
                  <a:pt x="18581" y="10676"/>
                  <a:pt x="18554" y="10868"/>
                  <a:pt x="18554" y="10939"/>
                </a:cubicBezTo>
                <a:cubicBezTo>
                  <a:pt x="18554" y="10988"/>
                  <a:pt x="18554" y="11005"/>
                  <a:pt x="18554" y="11038"/>
                </a:cubicBezTo>
              </a:path>
              <a:path w="373" h="1117">
                <a:moveTo>
                  <a:pt x="18827" y="11385"/>
                </a:moveTo>
                <a:cubicBezTo>
                  <a:pt x="18798" y="11348"/>
                  <a:pt x="18704" y="11295"/>
                  <a:pt x="18653" y="11361"/>
                </a:cubicBezTo>
                <a:cubicBezTo>
                  <a:pt x="18653" y="11369"/>
                  <a:pt x="18653" y="11377"/>
                  <a:pt x="18653" y="11385"/>
                </a:cubicBezTo>
                <a:cubicBezTo>
                  <a:pt x="18724" y="11501"/>
                  <a:pt x="18827" y="11584"/>
                  <a:pt x="18901" y="11708"/>
                </a:cubicBezTo>
                <a:cubicBezTo>
                  <a:pt x="18875" y="11723"/>
                  <a:pt x="18631" y="11816"/>
                  <a:pt x="18678" y="11683"/>
                </a:cubicBezTo>
                <a:cubicBezTo>
                  <a:pt x="18714" y="11582"/>
                  <a:pt x="18818" y="11511"/>
                  <a:pt x="1885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Types of Change in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84200" y="4870440"/>
            <a:ext cx="66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3120" y="2813040"/>
            <a:ext cx="1704960" cy="88920"/>
          </a:xfrm>
          <a:custGeom>
            <a:avLst/>
            <a:gdLst/>
            <a:ahLst/>
            <a:rect l="l" t="t" r="r" b="b"/>
            <a:pathLst>
              <a:path w="4739" h="250">
                <a:moveTo>
                  <a:pt x="17090" y="8012"/>
                </a:moveTo>
                <a:cubicBezTo>
                  <a:pt x="17611" y="8012"/>
                  <a:pt x="18133" y="8011"/>
                  <a:pt x="18653" y="8037"/>
                </a:cubicBezTo>
                <a:cubicBezTo>
                  <a:pt x="19054" y="8057"/>
                  <a:pt x="19443" y="8073"/>
                  <a:pt x="19844" y="8037"/>
                </a:cubicBezTo>
                <a:cubicBezTo>
                  <a:pt x="20135" y="8011"/>
                  <a:pt x="20421" y="7946"/>
                  <a:pt x="20712" y="7913"/>
                </a:cubicBezTo>
                <a:cubicBezTo>
                  <a:pt x="20956" y="7885"/>
                  <a:pt x="21630" y="7700"/>
                  <a:pt x="21828" y="7838"/>
                </a:cubicBezTo>
                <a:cubicBezTo>
                  <a:pt x="21812" y="7846"/>
                  <a:pt x="21795" y="7855"/>
                  <a:pt x="21779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0080" y="3562200"/>
            <a:ext cx="2232000" cy="152640"/>
          </a:xfrm>
          <a:custGeom>
            <a:avLst/>
            <a:gdLst/>
            <a:ahLst/>
            <a:rect l="l" t="t" r="r" b="b"/>
            <a:pathLst>
              <a:path w="6202" h="423">
                <a:moveTo>
                  <a:pt x="9277" y="10269"/>
                </a:moveTo>
                <a:cubicBezTo>
                  <a:pt x="9408" y="10301"/>
                  <a:pt x="9501" y="10317"/>
                  <a:pt x="9649" y="10319"/>
                </a:cubicBezTo>
                <a:cubicBezTo>
                  <a:pt x="10053" y="10325"/>
                  <a:pt x="10462" y="10286"/>
                  <a:pt x="10864" y="10294"/>
                </a:cubicBezTo>
                <a:cubicBezTo>
                  <a:pt x="11479" y="10306"/>
                  <a:pt x="12062" y="10260"/>
                  <a:pt x="12675" y="10195"/>
                </a:cubicBezTo>
                <a:cubicBezTo>
                  <a:pt x="13049" y="10155"/>
                  <a:pt x="13418" y="10092"/>
                  <a:pt x="13791" y="10046"/>
                </a:cubicBezTo>
                <a:cubicBezTo>
                  <a:pt x="14227" y="9992"/>
                  <a:pt x="14668" y="9941"/>
                  <a:pt x="15106" y="9922"/>
                </a:cubicBezTo>
                <a:cubicBezTo>
                  <a:pt x="15186" y="9918"/>
                  <a:pt x="15452" y="9897"/>
                  <a:pt x="15453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1840" y="241200"/>
            <a:ext cx="86518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259680" y="4159080"/>
            <a:ext cx="2884320" cy="269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8440" y="1303200"/>
            <a:ext cx="81770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graphing functions or linear equations, the result will be a line that is created by connecting various solution sets, expressed as points (x,y).  The lines can be described using the following vocabul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e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Constant 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7800" y="5022720"/>
            <a:ext cx="1820880" cy="151776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30840" y="4946760"/>
            <a:ext cx="928440" cy="1670040"/>
          </a:xfrm>
          <a:prstGeom prst="line">
            <a:avLst/>
          </a:prstGeom>
          <a:ln w="414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69200" y="4719600"/>
            <a:ext cx="2674800" cy="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575928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22349" y="16049"/>
                </a:moveTo>
                <a:cubicBezTo>
                  <a:pt x="22349" y="16007"/>
                  <a:pt x="22341" y="15991"/>
                  <a:pt x="22374" y="15999"/>
                </a:cubicBezTo>
              </a:path>
              <a:path w="150" h="51">
                <a:moveTo>
                  <a:pt x="22299" y="16049"/>
                </a:moveTo>
                <a:cubicBezTo>
                  <a:pt x="22359" y="16049"/>
                  <a:pt x="22308" y="16024"/>
                  <a:pt x="22275" y="16024"/>
                </a:cubicBezTo>
              </a:path>
              <a:path w="150" h="51">
                <a:moveTo>
                  <a:pt x="22275" y="16024"/>
                </a:moveTo>
                <a:cubicBezTo>
                  <a:pt x="22275" y="15985"/>
                  <a:pt x="22258" y="15999"/>
                  <a:pt x="22225" y="15999"/>
                </a:cubicBezTo>
              </a:path>
              <a:path w="150" h="51">
                <a:moveTo>
                  <a:pt x="22225" y="15999"/>
                </a:moveTo>
                <a:lnTo>
                  <a:pt x="22225" y="15999"/>
                </a:lnTo>
                <a:lnTo>
                  <a:pt x="22225" y="15999"/>
                </a:lnTo>
              </a:path>
              <a:path w="150" h="51">
                <a:moveTo>
                  <a:pt x="22225" y="15999"/>
                </a:moveTo>
                <a:lnTo>
                  <a:pt x="22225" y="159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4080" y="282096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9624" y="7987"/>
                </a:moveTo>
                <a:cubicBezTo>
                  <a:pt x="9624" y="7947"/>
                  <a:pt x="9626" y="8241"/>
                  <a:pt x="9624" y="8285"/>
                </a:cubicBezTo>
                <a:cubicBezTo>
                  <a:pt x="9624" y="8359"/>
                  <a:pt x="9649" y="8392"/>
                  <a:pt x="9599" y="8384"/>
                </a:cubicBezTo>
              </a:path>
              <a:path w="571" h="547">
                <a:moveTo>
                  <a:pt x="9426" y="8161"/>
                </a:moveTo>
                <a:cubicBezTo>
                  <a:pt x="9601" y="8119"/>
                  <a:pt x="9740" y="8111"/>
                  <a:pt x="9922" y="8111"/>
                </a:cubicBezTo>
                <a:cubicBezTo>
                  <a:pt x="9914" y="8111"/>
                  <a:pt x="9905" y="8111"/>
                  <a:pt x="9897" y="8111"/>
                </a:cubicBezTo>
              </a:path>
              <a:path w="571" h="547">
                <a:moveTo>
                  <a:pt x="9798" y="7838"/>
                </a:moveTo>
                <a:cubicBezTo>
                  <a:pt x="9729" y="7934"/>
                  <a:pt x="9683" y="8127"/>
                  <a:pt x="9575" y="8235"/>
                </a:cubicBezTo>
                <a:cubicBezTo>
                  <a:pt x="9575" y="8227"/>
                  <a:pt x="9575" y="8218"/>
                  <a:pt x="9575" y="8210"/>
                </a:cubicBezTo>
              </a:path>
              <a:path w="571" h="547">
                <a:moveTo>
                  <a:pt x="9599" y="7938"/>
                </a:moveTo>
                <a:cubicBezTo>
                  <a:pt x="9706" y="8103"/>
                  <a:pt x="9816" y="8170"/>
                  <a:pt x="9971" y="8285"/>
                </a:cubicBezTo>
                <a:cubicBezTo>
                  <a:pt x="9979" y="8293"/>
                  <a:pt x="9988" y="8302"/>
                  <a:pt x="9996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1200" y="2857680"/>
            <a:ext cx="677880" cy="206280"/>
          </a:xfrm>
          <a:custGeom>
            <a:avLst/>
            <a:gdLst/>
            <a:ahLst/>
            <a:rect l="l" t="t" r="r" b="b"/>
            <a:pathLst>
              <a:path w="1886" h="571">
                <a:moveTo>
                  <a:pt x="10418" y="7962"/>
                </a:moveTo>
                <a:cubicBezTo>
                  <a:pt x="10418" y="7954"/>
                  <a:pt x="10418" y="7946"/>
                  <a:pt x="10418" y="7938"/>
                </a:cubicBezTo>
                <a:cubicBezTo>
                  <a:pt x="10493" y="8035"/>
                  <a:pt x="10457" y="8170"/>
                  <a:pt x="10443" y="8285"/>
                </a:cubicBezTo>
                <a:cubicBezTo>
                  <a:pt x="10422" y="8409"/>
                  <a:pt x="10414" y="8433"/>
                  <a:pt x="10418" y="8508"/>
                </a:cubicBezTo>
              </a:path>
              <a:path w="1886" h="571">
                <a:moveTo>
                  <a:pt x="10716" y="8359"/>
                </a:moveTo>
                <a:cubicBezTo>
                  <a:pt x="10790" y="8313"/>
                  <a:pt x="10895" y="8315"/>
                  <a:pt x="10988" y="8310"/>
                </a:cubicBezTo>
                <a:cubicBezTo>
                  <a:pt x="11021" y="8310"/>
                  <a:pt x="11030" y="8302"/>
                  <a:pt x="11013" y="8260"/>
                </a:cubicBezTo>
                <a:cubicBezTo>
                  <a:pt x="10985" y="8187"/>
                  <a:pt x="10914" y="8046"/>
                  <a:pt x="10790" y="8111"/>
                </a:cubicBezTo>
                <a:cubicBezTo>
                  <a:pt x="10685" y="8166"/>
                  <a:pt x="10628" y="8414"/>
                  <a:pt x="10740" y="8483"/>
                </a:cubicBezTo>
                <a:cubicBezTo>
                  <a:pt x="10840" y="8544"/>
                  <a:pt x="10904" y="8501"/>
                  <a:pt x="10988" y="8458"/>
                </a:cubicBezTo>
              </a:path>
              <a:path w="1886" h="571">
                <a:moveTo>
                  <a:pt x="11485" y="8037"/>
                </a:moveTo>
                <a:cubicBezTo>
                  <a:pt x="11485" y="8020"/>
                  <a:pt x="11485" y="8004"/>
                  <a:pt x="11485" y="7987"/>
                </a:cubicBezTo>
                <a:cubicBezTo>
                  <a:pt x="11397" y="7974"/>
                  <a:pt x="11392" y="7925"/>
                  <a:pt x="11336" y="8037"/>
                </a:cubicBezTo>
                <a:cubicBezTo>
                  <a:pt x="11264" y="8181"/>
                  <a:pt x="11286" y="8327"/>
                  <a:pt x="11286" y="8483"/>
                </a:cubicBezTo>
                <a:cubicBezTo>
                  <a:pt x="11286" y="8508"/>
                  <a:pt x="11286" y="8516"/>
                  <a:pt x="11286" y="8483"/>
                </a:cubicBezTo>
              </a:path>
              <a:path w="1886" h="571">
                <a:moveTo>
                  <a:pt x="11162" y="8334"/>
                </a:moveTo>
                <a:cubicBezTo>
                  <a:pt x="11301" y="8315"/>
                  <a:pt x="11419" y="8365"/>
                  <a:pt x="11559" y="8334"/>
                </a:cubicBezTo>
                <a:cubicBezTo>
                  <a:pt x="11584" y="8326"/>
                  <a:pt x="11608" y="8318"/>
                  <a:pt x="11633" y="8310"/>
                </a:cubicBezTo>
              </a:path>
              <a:path w="1886" h="571">
                <a:moveTo>
                  <a:pt x="11857" y="7987"/>
                </a:moveTo>
                <a:cubicBezTo>
                  <a:pt x="11835" y="8119"/>
                  <a:pt x="11832" y="8247"/>
                  <a:pt x="11832" y="8384"/>
                </a:cubicBezTo>
                <a:cubicBezTo>
                  <a:pt x="11832" y="8425"/>
                  <a:pt x="11832" y="8499"/>
                  <a:pt x="11832" y="8458"/>
                </a:cubicBezTo>
              </a:path>
              <a:path w="1886" h="571">
                <a:moveTo>
                  <a:pt x="11733" y="8186"/>
                </a:moveTo>
                <a:cubicBezTo>
                  <a:pt x="11925" y="8209"/>
                  <a:pt x="12110" y="8210"/>
                  <a:pt x="12303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89640" y="2874960"/>
            <a:ext cx="233280" cy="16992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12898" y="7987"/>
                </a:moveTo>
                <a:cubicBezTo>
                  <a:pt x="12928" y="8107"/>
                  <a:pt x="12923" y="8249"/>
                  <a:pt x="12923" y="8384"/>
                </a:cubicBezTo>
                <a:cubicBezTo>
                  <a:pt x="12923" y="8401"/>
                  <a:pt x="12923" y="8417"/>
                  <a:pt x="12923" y="8434"/>
                </a:cubicBezTo>
              </a:path>
              <a:path w="646" h="472">
                <a:moveTo>
                  <a:pt x="12750" y="8210"/>
                </a:moveTo>
                <a:cubicBezTo>
                  <a:pt x="12910" y="8210"/>
                  <a:pt x="13063" y="8228"/>
                  <a:pt x="13221" y="8235"/>
                </a:cubicBezTo>
                <a:cubicBezTo>
                  <a:pt x="13229" y="8235"/>
                  <a:pt x="13238" y="8235"/>
                  <a:pt x="13246" y="8235"/>
                </a:cubicBezTo>
                <a:cubicBezTo>
                  <a:pt x="13210" y="8326"/>
                  <a:pt x="13188" y="8349"/>
                  <a:pt x="13221" y="8458"/>
                </a:cubicBezTo>
                <a:cubicBezTo>
                  <a:pt x="13311" y="8442"/>
                  <a:pt x="13446" y="8387"/>
                  <a:pt x="13370" y="8260"/>
                </a:cubicBezTo>
                <a:cubicBezTo>
                  <a:pt x="13302" y="8193"/>
                  <a:pt x="13288" y="8169"/>
                  <a:pt x="13221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83120" y="2840040"/>
            <a:ext cx="803160" cy="322200"/>
          </a:xfrm>
          <a:custGeom>
            <a:avLst/>
            <a:gdLst/>
            <a:ahLst/>
            <a:rect l="l" t="t" r="r" b="b"/>
            <a:pathLst>
              <a:path w="2233" h="894">
                <a:moveTo>
                  <a:pt x="13841" y="8062"/>
                </a:moveTo>
                <a:cubicBezTo>
                  <a:pt x="13861" y="8158"/>
                  <a:pt x="13879" y="8244"/>
                  <a:pt x="13915" y="8334"/>
                </a:cubicBezTo>
                <a:cubicBezTo>
                  <a:pt x="13915" y="8218"/>
                  <a:pt x="13919" y="8140"/>
                  <a:pt x="14039" y="8086"/>
                </a:cubicBezTo>
                <a:cubicBezTo>
                  <a:pt x="14118" y="8051"/>
                  <a:pt x="14205" y="8062"/>
                  <a:pt x="14288" y="8062"/>
                </a:cubicBezTo>
              </a:path>
              <a:path w="2233" h="894">
                <a:moveTo>
                  <a:pt x="14486" y="8210"/>
                </a:moveTo>
                <a:cubicBezTo>
                  <a:pt x="14486" y="8276"/>
                  <a:pt x="14486" y="8343"/>
                  <a:pt x="14486" y="8409"/>
                </a:cubicBezTo>
              </a:path>
              <a:path w="2233" h="894">
                <a:moveTo>
                  <a:pt x="14560" y="7987"/>
                </a:moveTo>
                <a:cubicBezTo>
                  <a:pt x="14568" y="7987"/>
                  <a:pt x="14577" y="7987"/>
                  <a:pt x="14585" y="7987"/>
                </a:cubicBezTo>
              </a:path>
              <a:path w="2233" h="894">
                <a:moveTo>
                  <a:pt x="14585" y="7987"/>
                </a:moveTo>
                <a:lnTo>
                  <a:pt x="14585" y="7987"/>
                </a:lnTo>
              </a:path>
              <a:path w="2233" h="894">
                <a:moveTo>
                  <a:pt x="14908" y="8186"/>
                </a:moveTo>
                <a:cubicBezTo>
                  <a:pt x="14851" y="8129"/>
                  <a:pt x="14715" y="8217"/>
                  <a:pt x="14734" y="8310"/>
                </a:cubicBezTo>
                <a:cubicBezTo>
                  <a:pt x="14773" y="8501"/>
                  <a:pt x="14958" y="8259"/>
                  <a:pt x="14982" y="8210"/>
                </a:cubicBezTo>
                <a:cubicBezTo>
                  <a:pt x="14982" y="8202"/>
                  <a:pt x="14982" y="8194"/>
                  <a:pt x="14982" y="8186"/>
                </a:cubicBezTo>
                <a:cubicBezTo>
                  <a:pt x="14914" y="8208"/>
                  <a:pt x="14979" y="8385"/>
                  <a:pt x="14982" y="8434"/>
                </a:cubicBezTo>
                <a:cubicBezTo>
                  <a:pt x="14989" y="8566"/>
                  <a:pt x="14883" y="8943"/>
                  <a:pt x="14660" y="8756"/>
                </a:cubicBezTo>
                <a:cubicBezTo>
                  <a:pt x="14632" y="8643"/>
                  <a:pt x="14630" y="8598"/>
                  <a:pt x="14709" y="8533"/>
                </a:cubicBezTo>
              </a:path>
              <a:path w="2233" h="894">
                <a:moveTo>
                  <a:pt x="15230" y="7938"/>
                </a:moveTo>
                <a:cubicBezTo>
                  <a:pt x="15230" y="8050"/>
                  <a:pt x="15217" y="8159"/>
                  <a:pt x="15230" y="8260"/>
                </a:cubicBezTo>
                <a:cubicBezTo>
                  <a:pt x="15230" y="8268"/>
                  <a:pt x="15230" y="8277"/>
                  <a:pt x="15230" y="8285"/>
                </a:cubicBezTo>
                <a:cubicBezTo>
                  <a:pt x="15216" y="8257"/>
                  <a:pt x="15234" y="8190"/>
                  <a:pt x="15280" y="8161"/>
                </a:cubicBezTo>
                <a:cubicBezTo>
                  <a:pt x="15382" y="8097"/>
                  <a:pt x="15457" y="8153"/>
                  <a:pt x="15478" y="8260"/>
                </a:cubicBezTo>
                <a:cubicBezTo>
                  <a:pt x="15501" y="8380"/>
                  <a:pt x="15388" y="8376"/>
                  <a:pt x="15528" y="8359"/>
                </a:cubicBezTo>
              </a:path>
              <a:path w="2233" h="894">
                <a:moveTo>
                  <a:pt x="15801" y="7888"/>
                </a:moveTo>
                <a:cubicBezTo>
                  <a:pt x="15855" y="7926"/>
                  <a:pt x="15825" y="8133"/>
                  <a:pt x="15825" y="8210"/>
                </a:cubicBezTo>
                <a:cubicBezTo>
                  <a:pt x="15825" y="8293"/>
                  <a:pt x="15825" y="8309"/>
                  <a:pt x="15825" y="8359"/>
                </a:cubicBezTo>
              </a:path>
              <a:path w="2233" h="894">
                <a:moveTo>
                  <a:pt x="15726" y="8111"/>
                </a:moveTo>
                <a:cubicBezTo>
                  <a:pt x="15824" y="8081"/>
                  <a:pt x="15919" y="8086"/>
                  <a:pt x="16024" y="8086"/>
                </a:cubicBezTo>
                <a:cubicBezTo>
                  <a:pt x="16040" y="8086"/>
                  <a:pt x="16057" y="8086"/>
                  <a:pt x="16073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6120" y="2857680"/>
            <a:ext cx="17784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7165" y="7938"/>
                </a:moveTo>
                <a:cubicBezTo>
                  <a:pt x="17237" y="7985"/>
                  <a:pt x="17175" y="8185"/>
                  <a:pt x="17190" y="8285"/>
                </a:cubicBezTo>
                <a:cubicBezTo>
                  <a:pt x="17193" y="8304"/>
                  <a:pt x="17214" y="8460"/>
                  <a:pt x="17214" y="8334"/>
                </a:cubicBezTo>
              </a:path>
              <a:path w="497" h="447">
                <a:moveTo>
                  <a:pt x="17016" y="8136"/>
                </a:moveTo>
                <a:cubicBezTo>
                  <a:pt x="17154" y="8136"/>
                  <a:pt x="17342" y="8108"/>
                  <a:pt x="17462" y="8161"/>
                </a:cubicBezTo>
              </a:path>
              <a:path w="497" h="447">
                <a:moveTo>
                  <a:pt x="17512" y="8012"/>
                </a:moveTo>
                <a:cubicBezTo>
                  <a:pt x="17370" y="8060"/>
                  <a:pt x="17272" y="8204"/>
                  <a:pt x="17165" y="8310"/>
                </a:cubicBezTo>
                <a:cubicBezTo>
                  <a:pt x="17157" y="8318"/>
                  <a:pt x="17148" y="8326"/>
                  <a:pt x="17140" y="8334"/>
                </a:cubicBezTo>
              </a:path>
              <a:path w="497" h="447">
                <a:moveTo>
                  <a:pt x="17115" y="8062"/>
                </a:moveTo>
                <a:cubicBezTo>
                  <a:pt x="17233" y="8144"/>
                  <a:pt x="17325" y="8245"/>
                  <a:pt x="17413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3680" y="3456000"/>
            <a:ext cx="625320" cy="295200"/>
          </a:xfrm>
          <a:custGeom>
            <a:avLst/>
            <a:gdLst/>
            <a:ahLst/>
            <a:rect l="l" t="t" r="r" b="b"/>
            <a:pathLst>
              <a:path w="1737" h="820">
                <a:moveTo>
                  <a:pt x="8285" y="9897"/>
                </a:moveTo>
                <a:cubicBezTo>
                  <a:pt x="8285" y="9796"/>
                  <a:pt x="8273" y="9648"/>
                  <a:pt x="8161" y="9599"/>
                </a:cubicBezTo>
                <a:cubicBezTo>
                  <a:pt x="7878" y="9474"/>
                  <a:pt x="7829" y="9810"/>
                  <a:pt x="7863" y="9971"/>
                </a:cubicBezTo>
                <a:cubicBezTo>
                  <a:pt x="8078" y="9922"/>
                  <a:pt x="8149" y="9921"/>
                  <a:pt x="8210" y="9674"/>
                </a:cubicBezTo>
                <a:cubicBezTo>
                  <a:pt x="8316" y="9867"/>
                  <a:pt x="8396" y="10130"/>
                  <a:pt x="8210" y="10319"/>
                </a:cubicBezTo>
                <a:cubicBezTo>
                  <a:pt x="8051" y="10481"/>
                  <a:pt x="7929" y="10428"/>
                  <a:pt x="7789" y="10344"/>
                </a:cubicBezTo>
              </a:path>
              <a:path w="1737" h="820">
                <a:moveTo>
                  <a:pt x="8533" y="9674"/>
                </a:moveTo>
                <a:cubicBezTo>
                  <a:pt x="8364" y="9765"/>
                  <a:pt x="8385" y="9774"/>
                  <a:pt x="8359" y="9971"/>
                </a:cubicBezTo>
                <a:cubicBezTo>
                  <a:pt x="8495" y="10035"/>
                  <a:pt x="8805" y="9980"/>
                  <a:pt x="8657" y="9723"/>
                </a:cubicBezTo>
                <a:cubicBezTo>
                  <a:pt x="8606" y="9635"/>
                  <a:pt x="8349" y="9726"/>
                  <a:pt x="8582" y="9674"/>
                </a:cubicBezTo>
              </a:path>
              <a:path w="1737" h="820">
                <a:moveTo>
                  <a:pt x="8880" y="9748"/>
                </a:moveTo>
                <a:cubicBezTo>
                  <a:pt x="8966" y="9733"/>
                  <a:pt x="9019" y="9723"/>
                  <a:pt x="9103" y="9723"/>
                </a:cubicBezTo>
                <a:cubicBezTo>
                  <a:pt x="8977" y="9637"/>
                  <a:pt x="8877" y="9517"/>
                  <a:pt x="8830" y="9723"/>
                </a:cubicBezTo>
                <a:cubicBezTo>
                  <a:pt x="8806" y="9870"/>
                  <a:pt x="8797" y="9918"/>
                  <a:pt x="8880" y="9996"/>
                </a:cubicBezTo>
                <a:cubicBezTo>
                  <a:pt x="9130" y="9997"/>
                  <a:pt x="9266" y="9851"/>
                  <a:pt x="9426" y="9649"/>
                </a:cubicBezTo>
                <a:cubicBezTo>
                  <a:pt x="9512" y="9541"/>
                  <a:pt x="9298" y="9620"/>
                  <a:pt x="9277" y="9624"/>
                </a:cubicBezTo>
                <a:cubicBezTo>
                  <a:pt x="9242" y="9641"/>
                  <a:pt x="9475" y="9681"/>
                  <a:pt x="9525" y="9773"/>
                </a:cubicBezTo>
                <a:cubicBezTo>
                  <a:pt x="9631" y="9967"/>
                  <a:pt x="9336" y="9922"/>
                  <a:pt x="9277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2920" y="3394080"/>
            <a:ext cx="384120" cy="330120"/>
          </a:xfrm>
          <a:custGeom>
            <a:avLst/>
            <a:gdLst/>
            <a:ahLst/>
            <a:rect l="l" t="t" r="r" b="b"/>
            <a:pathLst>
              <a:path w="1068" h="919">
                <a:moveTo>
                  <a:pt x="10145" y="9599"/>
                </a:moveTo>
                <a:cubicBezTo>
                  <a:pt x="10174" y="9670"/>
                  <a:pt x="10168" y="9989"/>
                  <a:pt x="10319" y="9971"/>
                </a:cubicBezTo>
                <a:cubicBezTo>
                  <a:pt x="10427" y="9890"/>
                  <a:pt x="10464" y="9855"/>
                  <a:pt x="10468" y="9748"/>
                </a:cubicBezTo>
                <a:cubicBezTo>
                  <a:pt x="10509" y="9899"/>
                  <a:pt x="10613" y="10025"/>
                  <a:pt x="10765" y="9847"/>
                </a:cubicBezTo>
                <a:cubicBezTo>
                  <a:pt x="10816" y="9787"/>
                  <a:pt x="10838" y="9660"/>
                  <a:pt x="10790" y="9723"/>
                </a:cubicBezTo>
                <a:cubicBezTo>
                  <a:pt x="10831" y="9930"/>
                  <a:pt x="10876" y="10133"/>
                  <a:pt x="10889" y="10344"/>
                </a:cubicBezTo>
                <a:cubicBezTo>
                  <a:pt x="10864" y="10109"/>
                  <a:pt x="10839" y="9884"/>
                  <a:pt x="10914" y="9649"/>
                </a:cubicBezTo>
                <a:cubicBezTo>
                  <a:pt x="11002" y="9494"/>
                  <a:pt x="11014" y="9445"/>
                  <a:pt x="11137" y="9426"/>
                </a:cubicBezTo>
                <a:cubicBezTo>
                  <a:pt x="11223" y="9605"/>
                  <a:pt x="11274" y="9879"/>
                  <a:pt x="10964" y="9872"/>
                </a:cubicBezTo>
                <a:cubicBezTo>
                  <a:pt x="10931" y="9856"/>
                  <a:pt x="10897" y="9839"/>
                  <a:pt x="1086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4160" y="3251160"/>
            <a:ext cx="409680" cy="338040"/>
          </a:xfrm>
          <a:custGeom>
            <a:avLst/>
            <a:gdLst/>
            <a:ahLst/>
            <a:rect l="l" t="t" r="r" b="b"/>
            <a:pathLst>
              <a:path w="1142" h="943">
                <a:moveTo>
                  <a:pt x="12278" y="9847"/>
                </a:moveTo>
                <a:cubicBezTo>
                  <a:pt x="12554" y="9654"/>
                  <a:pt x="12802" y="9428"/>
                  <a:pt x="13072" y="9227"/>
                </a:cubicBezTo>
                <a:cubicBezTo>
                  <a:pt x="13187" y="9151"/>
                  <a:pt x="13200" y="9136"/>
                  <a:pt x="13271" y="9103"/>
                </a:cubicBezTo>
              </a:path>
              <a:path w="1142" h="943">
                <a:moveTo>
                  <a:pt x="12874" y="9103"/>
                </a:moveTo>
                <a:cubicBezTo>
                  <a:pt x="12998" y="9090"/>
                  <a:pt x="13121" y="9051"/>
                  <a:pt x="13246" y="9029"/>
                </a:cubicBezTo>
                <a:cubicBezTo>
                  <a:pt x="13294" y="9021"/>
                  <a:pt x="13298" y="9041"/>
                  <a:pt x="13320" y="9079"/>
                </a:cubicBezTo>
                <a:cubicBezTo>
                  <a:pt x="13384" y="9190"/>
                  <a:pt x="13333" y="9333"/>
                  <a:pt x="13320" y="9451"/>
                </a:cubicBezTo>
              </a:path>
              <a:path w="1142" h="943">
                <a:moveTo>
                  <a:pt x="12303" y="9525"/>
                </a:moveTo>
                <a:cubicBezTo>
                  <a:pt x="12257" y="9555"/>
                  <a:pt x="12235" y="9756"/>
                  <a:pt x="12229" y="9823"/>
                </a:cubicBezTo>
                <a:cubicBezTo>
                  <a:pt x="12229" y="9917"/>
                  <a:pt x="12250" y="9938"/>
                  <a:pt x="12204" y="9971"/>
                </a:cubicBezTo>
                <a:cubicBezTo>
                  <a:pt x="12306" y="9971"/>
                  <a:pt x="12400" y="9954"/>
                  <a:pt x="12502" y="9947"/>
                </a:cubicBezTo>
                <a:cubicBezTo>
                  <a:pt x="12558" y="9943"/>
                  <a:pt x="12618" y="9947"/>
                  <a:pt x="12675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59040" y="4027320"/>
            <a:ext cx="750960" cy="312840"/>
          </a:xfrm>
          <a:custGeom>
            <a:avLst/>
            <a:gdLst/>
            <a:ahLst/>
            <a:rect l="l" t="t" r="r" b="b"/>
            <a:pathLst>
              <a:path w="2084" h="869">
                <a:moveTo>
                  <a:pt x="8111" y="11435"/>
                </a:moveTo>
                <a:cubicBezTo>
                  <a:pt x="8176" y="11413"/>
                  <a:pt x="8072" y="11280"/>
                  <a:pt x="8037" y="11261"/>
                </a:cubicBezTo>
                <a:cubicBezTo>
                  <a:pt x="7828" y="11148"/>
                  <a:pt x="7809" y="11437"/>
                  <a:pt x="7764" y="11559"/>
                </a:cubicBezTo>
                <a:cubicBezTo>
                  <a:pt x="7972" y="11635"/>
                  <a:pt x="8068" y="11623"/>
                  <a:pt x="8136" y="11385"/>
                </a:cubicBezTo>
                <a:cubicBezTo>
                  <a:pt x="8136" y="11377"/>
                  <a:pt x="8136" y="11369"/>
                  <a:pt x="8136" y="11361"/>
                </a:cubicBezTo>
                <a:cubicBezTo>
                  <a:pt x="8221" y="11599"/>
                  <a:pt x="8276" y="11811"/>
                  <a:pt x="8037" y="11981"/>
                </a:cubicBezTo>
                <a:cubicBezTo>
                  <a:pt x="7866" y="12102"/>
                  <a:pt x="7579" y="12108"/>
                  <a:pt x="7789" y="11881"/>
                </a:cubicBezTo>
              </a:path>
              <a:path w="2084" h="869">
                <a:moveTo>
                  <a:pt x="8682" y="11311"/>
                </a:moveTo>
                <a:cubicBezTo>
                  <a:pt x="8607" y="11296"/>
                  <a:pt x="8563" y="11233"/>
                  <a:pt x="8483" y="11286"/>
                </a:cubicBezTo>
                <a:cubicBezTo>
                  <a:pt x="8309" y="11401"/>
                  <a:pt x="8279" y="11565"/>
                  <a:pt x="8334" y="11733"/>
                </a:cubicBezTo>
                <a:cubicBezTo>
                  <a:pt x="8474" y="11710"/>
                  <a:pt x="8777" y="11665"/>
                  <a:pt x="8657" y="11435"/>
                </a:cubicBezTo>
                <a:cubicBezTo>
                  <a:pt x="8614" y="11352"/>
                  <a:pt x="8594" y="11361"/>
                  <a:pt x="8533" y="11361"/>
                </a:cubicBezTo>
              </a:path>
              <a:path w="2084" h="869">
                <a:moveTo>
                  <a:pt x="8880" y="11435"/>
                </a:moveTo>
                <a:cubicBezTo>
                  <a:pt x="8992" y="11420"/>
                  <a:pt x="9091" y="11410"/>
                  <a:pt x="9203" y="11410"/>
                </a:cubicBezTo>
                <a:cubicBezTo>
                  <a:pt x="9188" y="11322"/>
                  <a:pt x="9125" y="11185"/>
                  <a:pt x="9004" y="11212"/>
                </a:cubicBezTo>
                <a:cubicBezTo>
                  <a:pt x="8792" y="11259"/>
                  <a:pt x="8734" y="11637"/>
                  <a:pt x="8954" y="11708"/>
                </a:cubicBezTo>
                <a:cubicBezTo>
                  <a:pt x="9133" y="11708"/>
                  <a:pt x="9196" y="11706"/>
                  <a:pt x="9302" y="11633"/>
                </a:cubicBezTo>
              </a:path>
              <a:path w="2084" h="869">
                <a:moveTo>
                  <a:pt x="9674" y="11212"/>
                </a:moveTo>
                <a:cubicBezTo>
                  <a:pt x="9529" y="11158"/>
                  <a:pt x="9467" y="11216"/>
                  <a:pt x="9351" y="11311"/>
                </a:cubicBezTo>
                <a:cubicBezTo>
                  <a:pt x="9413" y="11335"/>
                  <a:pt x="9871" y="11448"/>
                  <a:pt x="9748" y="11609"/>
                </a:cubicBezTo>
                <a:cubicBezTo>
                  <a:pt x="9587" y="11678"/>
                  <a:pt x="9542" y="11703"/>
                  <a:pt x="9426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1840" y="3911760"/>
            <a:ext cx="822240" cy="3204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10740" y="11534"/>
                </a:moveTo>
                <a:cubicBezTo>
                  <a:pt x="10711" y="11430"/>
                  <a:pt x="10690" y="11427"/>
                  <a:pt x="10616" y="11361"/>
                </a:cubicBezTo>
                <a:cubicBezTo>
                  <a:pt x="10519" y="11412"/>
                  <a:pt x="10178" y="11744"/>
                  <a:pt x="10517" y="11757"/>
                </a:cubicBezTo>
                <a:cubicBezTo>
                  <a:pt x="10726" y="11706"/>
                  <a:pt x="10797" y="11681"/>
                  <a:pt x="10840" y="11509"/>
                </a:cubicBezTo>
              </a:path>
              <a:path w="2283" h="894">
                <a:moveTo>
                  <a:pt x="10790" y="10864"/>
                </a:moveTo>
                <a:cubicBezTo>
                  <a:pt x="10830" y="11116"/>
                  <a:pt x="10780" y="11379"/>
                  <a:pt x="10815" y="11633"/>
                </a:cubicBezTo>
                <a:cubicBezTo>
                  <a:pt x="10856" y="11674"/>
                  <a:pt x="10881" y="11666"/>
                  <a:pt x="10914" y="11584"/>
                </a:cubicBezTo>
              </a:path>
              <a:path w="2283" h="894">
                <a:moveTo>
                  <a:pt x="11088" y="11237"/>
                </a:moveTo>
                <a:cubicBezTo>
                  <a:pt x="10969" y="11356"/>
                  <a:pt x="10929" y="11392"/>
                  <a:pt x="10914" y="11509"/>
                </a:cubicBezTo>
                <a:cubicBezTo>
                  <a:pt x="11017" y="11578"/>
                  <a:pt x="11395" y="11693"/>
                  <a:pt x="11311" y="11385"/>
                </a:cubicBezTo>
                <a:cubicBezTo>
                  <a:pt x="11222" y="11273"/>
                  <a:pt x="11203" y="11239"/>
                  <a:pt x="11112" y="11212"/>
                </a:cubicBezTo>
              </a:path>
              <a:path w="2283" h="894">
                <a:moveTo>
                  <a:pt x="11435" y="11336"/>
                </a:moveTo>
                <a:cubicBezTo>
                  <a:pt x="11440" y="11405"/>
                  <a:pt x="11491" y="11867"/>
                  <a:pt x="11683" y="11609"/>
                </a:cubicBezTo>
                <a:cubicBezTo>
                  <a:pt x="11730" y="11470"/>
                  <a:pt x="11744" y="11430"/>
                  <a:pt x="11757" y="11336"/>
                </a:cubicBezTo>
                <a:cubicBezTo>
                  <a:pt x="11749" y="11328"/>
                  <a:pt x="11741" y="11319"/>
                  <a:pt x="11733" y="11311"/>
                </a:cubicBezTo>
                <a:cubicBezTo>
                  <a:pt x="11733" y="11453"/>
                  <a:pt x="11719" y="11771"/>
                  <a:pt x="11981" y="11658"/>
                </a:cubicBezTo>
                <a:cubicBezTo>
                  <a:pt x="12219" y="11555"/>
                  <a:pt x="11975" y="11292"/>
                  <a:pt x="11881" y="11237"/>
                </a:cubicBezTo>
              </a:path>
              <a:path w="2283" h="894">
                <a:moveTo>
                  <a:pt x="12278" y="11609"/>
                </a:moveTo>
                <a:cubicBezTo>
                  <a:pt x="12278" y="11745"/>
                  <a:pt x="12300" y="11440"/>
                  <a:pt x="12303" y="11435"/>
                </a:cubicBezTo>
                <a:cubicBezTo>
                  <a:pt x="12427" y="11219"/>
                  <a:pt x="12619" y="11288"/>
                  <a:pt x="12675" y="11509"/>
                </a:cubicBezTo>
                <a:cubicBezTo>
                  <a:pt x="12675" y="11633"/>
                  <a:pt x="12675" y="11658"/>
                  <a:pt x="12675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4840" y="3894120"/>
            <a:ext cx="401400" cy="392040"/>
          </a:xfrm>
          <a:custGeom>
            <a:avLst/>
            <a:gdLst/>
            <a:ahLst/>
            <a:rect l="l" t="t" r="r" b="b"/>
            <a:pathLst>
              <a:path w="1117" h="1092">
                <a:moveTo>
                  <a:pt x="13618" y="10939"/>
                </a:moveTo>
                <a:cubicBezTo>
                  <a:pt x="13868" y="11113"/>
                  <a:pt x="14095" y="11323"/>
                  <a:pt x="14337" y="11509"/>
                </a:cubicBezTo>
                <a:cubicBezTo>
                  <a:pt x="14400" y="11557"/>
                  <a:pt x="14522" y="11638"/>
                  <a:pt x="14585" y="11683"/>
                </a:cubicBezTo>
              </a:path>
              <a:path w="1117" h="1092">
                <a:moveTo>
                  <a:pt x="13618" y="10939"/>
                </a:moveTo>
                <a:cubicBezTo>
                  <a:pt x="13596" y="11072"/>
                  <a:pt x="13573" y="11199"/>
                  <a:pt x="13568" y="11336"/>
                </a:cubicBezTo>
                <a:cubicBezTo>
                  <a:pt x="13568" y="11344"/>
                  <a:pt x="13568" y="11353"/>
                  <a:pt x="13568" y="11361"/>
                </a:cubicBezTo>
                <a:cubicBezTo>
                  <a:pt x="13586" y="11236"/>
                  <a:pt x="13592" y="11112"/>
                  <a:pt x="13618" y="10988"/>
                </a:cubicBezTo>
                <a:cubicBezTo>
                  <a:pt x="13633" y="10917"/>
                  <a:pt x="13643" y="10882"/>
                  <a:pt x="13643" y="10815"/>
                </a:cubicBezTo>
                <a:cubicBezTo>
                  <a:pt x="13800" y="10860"/>
                  <a:pt x="13944" y="10921"/>
                  <a:pt x="14114" y="10939"/>
                </a:cubicBezTo>
                <a:cubicBezTo>
                  <a:pt x="14147" y="10939"/>
                  <a:pt x="14180" y="10939"/>
                  <a:pt x="14213" y="10939"/>
                </a:cubicBezTo>
              </a:path>
              <a:path w="1117" h="1092">
                <a:moveTo>
                  <a:pt x="14238" y="11757"/>
                </a:moveTo>
                <a:cubicBezTo>
                  <a:pt x="14325" y="11786"/>
                  <a:pt x="14422" y="11842"/>
                  <a:pt x="14511" y="11881"/>
                </a:cubicBezTo>
                <a:cubicBezTo>
                  <a:pt x="14527" y="11889"/>
                  <a:pt x="14544" y="11898"/>
                  <a:pt x="14560" y="11906"/>
                </a:cubicBezTo>
                <a:cubicBezTo>
                  <a:pt x="14583" y="11815"/>
                  <a:pt x="14632" y="11706"/>
                  <a:pt x="14660" y="11609"/>
                </a:cubicBezTo>
                <a:cubicBezTo>
                  <a:pt x="14680" y="11540"/>
                  <a:pt x="14684" y="11501"/>
                  <a:pt x="14684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9120" y="4483080"/>
            <a:ext cx="519120" cy="24912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7516" y="12948"/>
                </a:moveTo>
                <a:cubicBezTo>
                  <a:pt x="7491" y="12875"/>
                  <a:pt x="7483" y="12851"/>
                  <a:pt x="7491" y="12799"/>
                </a:cubicBezTo>
                <a:cubicBezTo>
                  <a:pt x="7503" y="12898"/>
                  <a:pt x="7529" y="12998"/>
                  <a:pt x="7541" y="13097"/>
                </a:cubicBezTo>
                <a:cubicBezTo>
                  <a:pt x="7533" y="12973"/>
                  <a:pt x="7465" y="12773"/>
                  <a:pt x="7640" y="12725"/>
                </a:cubicBezTo>
                <a:cubicBezTo>
                  <a:pt x="7880" y="12659"/>
                  <a:pt x="7939" y="12898"/>
                  <a:pt x="7962" y="13072"/>
                </a:cubicBezTo>
                <a:cubicBezTo>
                  <a:pt x="7962" y="13138"/>
                  <a:pt x="7954" y="13163"/>
                  <a:pt x="8012" y="13146"/>
                </a:cubicBezTo>
              </a:path>
              <a:path w="1440" h="695">
                <a:moveTo>
                  <a:pt x="8434" y="12700"/>
                </a:moveTo>
                <a:cubicBezTo>
                  <a:pt x="8296" y="12812"/>
                  <a:pt x="8249" y="12863"/>
                  <a:pt x="8186" y="13022"/>
                </a:cubicBezTo>
                <a:cubicBezTo>
                  <a:pt x="8317" y="13078"/>
                  <a:pt x="8676" y="13138"/>
                  <a:pt x="8632" y="12849"/>
                </a:cubicBezTo>
                <a:cubicBezTo>
                  <a:pt x="8615" y="12736"/>
                  <a:pt x="8466" y="12712"/>
                  <a:pt x="8384" y="12675"/>
                </a:cubicBezTo>
              </a:path>
              <a:path w="1440" h="695">
                <a:moveTo>
                  <a:pt x="7193" y="12452"/>
                </a:moveTo>
                <a:cubicBezTo>
                  <a:pt x="7206" y="12559"/>
                  <a:pt x="7226" y="12659"/>
                  <a:pt x="7293" y="12725"/>
                </a:cubicBezTo>
                <a:cubicBezTo>
                  <a:pt x="7328" y="12642"/>
                  <a:pt x="7322" y="12481"/>
                  <a:pt x="7342" y="12452"/>
                </a:cubicBezTo>
                <a:cubicBezTo>
                  <a:pt x="7382" y="12512"/>
                  <a:pt x="7421" y="12571"/>
                  <a:pt x="7466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63920" y="4402080"/>
            <a:ext cx="1366920" cy="536760"/>
          </a:xfrm>
          <a:custGeom>
            <a:avLst/>
            <a:gdLst/>
            <a:ahLst/>
            <a:rect l="l" t="t" r="r" b="b"/>
            <a:pathLst>
              <a:path w="3796" h="1489">
                <a:moveTo>
                  <a:pt x="9847" y="12750"/>
                </a:moveTo>
                <a:cubicBezTo>
                  <a:pt x="9852" y="12770"/>
                  <a:pt x="9872" y="12854"/>
                  <a:pt x="9872" y="12799"/>
                </a:cubicBezTo>
                <a:cubicBezTo>
                  <a:pt x="9727" y="12694"/>
                  <a:pt x="9603" y="12850"/>
                  <a:pt x="9624" y="13047"/>
                </a:cubicBezTo>
                <a:cubicBezTo>
                  <a:pt x="9659" y="13366"/>
                  <a:pt x="9923" y="13138"/>
                  <a:pt x="10046" y="13072"/>
                </a:cubicBezTo>
              </a:path>
              <a:path w="3796" h="1489">
                <a:moveTo>
                  <a:pt x="10096" y="12452"/>
                </a:moveTo>
                <a:cubicBezTo>
                  <a:pt x="10142" y="12663"/>
                  <a:pt x="10180" y="12881"/>
                  <a:pt x="10195" y="13097"/>
                </a:cubicBezTo>
                <a:cubicBezTo>
                  <a:pt x="10195" y="13105"/>
                  <a:pt x="10195" y="13114"/>
                  <a:pt x="10195" y="13122"/>
                </a:cubicBezTo>
                <a:cubicBezTo>
                  <a:pt x="10170" y="12975"/>
                  <a:pt x="10239" y="12687"/>
                  <a:pt x="10468" y="12725"/>
                </a:cubicBezTo>
                <a:cubicBezTo>
                  <a:pt x="10788" y="12779"/>
                  <a:pt x="10439" y="13192"/>
                  <a:pt x="10691" y="12998"/>
                </a:cubicBezTo>
              </a:path>
              <a:path w="3796" h="1489">
                <a:moveTo>
                  <a:pt x="11038" y="12799"/>
                </a:moveTo>
                <a:cubicBezTo>
                  <a:pt x="11063" y="12824"/>
                  <a:pt x="11071" y="12832"/>
                  <a:pt x="11088" y="12799"/>
                </a:cubicBezTo>
                <a:cubicBezTo>
                  <a:pt x="11049" y="12684"/>
                  <a:pt x="10914" y="12604"/>
                  <a:pt x="10815" y="12750"/>
                </a:cubicBezTo>
                <a:cubicBezTo>
                  <a:pt x="10770" y="12906"/>
                  <a:pt x="10750" y="12946"/>
                  <a:pt x="10790" y="13047"/>
                </a:cubicBezTo>
                <a:cubicBezTo>
                  <a:pt x="10854" y="13047"/>
                  <a:pt x="11225" y="13073"/>
                  <a:pt x="11137" y="12874"/>
                </a:cubicBezTo>
                <a:cubicBezTo>
                  <a:pt x="11129" y="12874"/>
                  <a:pt x="11120" y="12874"/>
                  <a:pt x="11112" y="12874"/>
                </a:cubicBezTo>
                <a:cubicBezTo>
                  <a:pt x="11135" y="12996"/>
                  <a:pt x="11185" y="13059"/>
                  <a:pt x="11311" y="12973"/>
                </a:cubicBezTo>
                <a:cubicBezTo>
                  <a:pt x="11403" y="12910"/>
                  <a:pt x="11449" y="12976"/>
                  <a:pt x="11410" y="13072"/>
                </a:cubicBezTo>
                <a:cubicBezTo>
                  <a:pt x="11402" y="13064"/>
                  <a:pt x="11393" y="13055"/>
                  <a:pt x="11385" y="13047"/>
                </a:cubicBezTo>
                <a:cubicBezTo>
                  <a:pt x="11403" y="12839"/>
                  <a:pt x="11432" y="12788"/>
                  <a:pt x="11609" y="12700"/>
                </a:cubicBezTo>
                <a:cubicBezTo>
                  <a:pt x="11724" y="12833"/>
                  <a:pt x="11769" y="12915"/>
                  <a:pt x="11708" y="13097"/>
                </a:cubicBezTo>
              </a:path>
              <a:path w="3796" h="1489">
                <a:moveTo>
                  <a:pt x="12154" y="12824"/>
                </a:moveTo>
                <a:cubicBezTo>
                  <a:pt x="11928" y="12763"/>
                  <a:pt x="11866" y="12863"/>
                  <a:pt x="11782" y="13072"/>
                </a:cubicBezTo>
                <a:cubicBezTo>
                  <a:pt x="11976" y="13130"/>
                  <a:pt x="12115" y="13098"/>
                  <a:pt x="12105" y="12849"/>
                </a:cubicBezTo>
                <a:cubicBezTo>
                  <a:pt x="12097" y="12841"/>
                  <a:pt x="12088" y="12832"/>
                  <a:pt x="12080" y="12824"/>
                </a:cubicBezTo>
                <a:cubicBezTo>
                  <a:pt x="12144" y="13038"/>
                  <a:pt x="12244" y="13287"/>
                  <a:pt x="12154" y="13519"/>
                </a:cubicBezTo>
                <a:cubicBezTo>
                  <a:pt x="12024" y="13856"/>
                  <a:pt x="11731" y="13729"/>
                  <a:pt x="11683" y="13519"/>
                </a:cubicBezTo>
              </a:path>
              <a:path w="3796" h="1489">
                <a:moveTo>
                  <a:pt x="12452" y="12874"/>
                </a:moveTo>
                <a:cubicBezTo>
                  <a:pt x="12540" y="12815"/>
                  <a:pt x="12647" y="12803"/>
                  <a:pt x="12750" y="12774"/>
                </a:cubicBezTo>
                <a:cubicBezTo>
                  <a:pt x="12654" y="12700"/>
                  <a:pt x="12552" y="12662"/>
                  <a:pt x="12452" y="12774"/>
                </a:cubicBezTo>
                <a:cubicBezTo>
                  <a:pt x="12381" y="12918"/>
                  <a:pt x="12356" y="12962"/>
                  <a:pt x="12378" y="13072"/>
                </a:cubicBezTo>
                <a:cubicBezTo>
                  <a:pt x="12641" y="13183"/>
                  <a:pt x="12754" y="13079"/>
                  <a:pt x="12973" y="12898"/>
                </a:cubicBezTo>
              </a:path>
              <a:path w="3796" h="1489">
                <a:moveTo>
                  <a:pt x="13295" y="12229"/>
                </a:moveTo>
                <a:cubicBezTo>
                  <a:pt x="13290" y="12258"/>
                  <a:pt x="13226" y="12667"/>
                  <a:pt x="13295" y="12576"/>
                </a:cubicBezTo>
                <a:cubicBezTo>
                  <a:pt x="13367" y="12457"/>
                  <a:pt x="13391" y="12422"/>
                  <a:pt x="13395" y="12328"/>
                </a:cubicBezTo>
                <a:cubicBezTo>
                  <a:pt x="13410" y="12390"/>
                  <a:pt x="13408" y="12474"/>
                  <a:pt x="13419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7720" y="4902120"/>
            <a:ext cx="482400" cy="21456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9624" y="13915"/>
                </a:moveTo>
                <a:cubicBezTo>
                  <a:pt x="9864" y="13896"/>
                  <a:pt x="10152" y="13878"/>
                  <a:pt x="10393" y="13915"/>
                </a:cubicBezTo>
                <a:cubicBezTo>
                  <a:pt x="10416" y="13938"/>
                  <a:pt x="10420" y="13946"/>
                  <a:pt x="10443" y="13940"/>
                </a:cubicBezTo>
              </a:path>
              <a:path w="1340" h="596">
                <a:moveTo>
                  <a:pt x="10195" y="13618"/>
                </a:moveTo>
                <a:cubicBezTo>
                  <a:pt x="10340" y="13690"/>
                  <a:pt x="10489" y="13716"/>
                  <a:pt x="10641" y="13767"/>
                </a:cubicBezTo>
                <a:cubicBezTo>
                  <a:pt x="10721" y="13871"/>
                  <a:pt x="10448" y="14000"/>
                  <a:pt x="10393" y="14039"/>
                </a:cubicBezTo>
                <a:cubicBezTo>
                  <a:pt x="10230" y="14155"/>
                  <a:pt x="10244" y="14204"/>
                  <a:pt x="10244" y="14089"/>
                </a:cubicBezTo>
              </a:path>
              <a:path w="1340" h="596">
                <a:moveTo>
                  <a:pt x="9649" y="13643"/>
                </a:moveTo>
                <a:cubicBezTo>
                  <a:pt x="9545" y="13764"/>
                  <a:pt x="9439" y="13877"/>
                  <a:pt x="9327" y="13990"/>
                </a:cubicBezTo>
                <a:cubicBezTo>
                  <a:pt x="9468" y="14055"/>
                  <a:pt x="9645" y="14103"/>
                  <a:pt x="9773" y="14188"/>
                </a:cubicBezTo>
                <a:cubicBezTo>
                  <a:pt x="9773" y="14196"/>
                  <a:pt x="9773" y="14205"/>
                  <a:pt x="9773" y="14213"/>
                </a:cubicBezTo>
              </a:path>
              <a:path w="1340" h="596">
                <a:moveTo>
                  <a:pt x="9525" y="13965"/>
                </a:moveTo>
                <a:cubicBezTo>
                  <a:pt x="9500" y="13965"/>
                  <a:pt x="9492" y="13965"/>
                  <a:pt x="9475" y="13965"/>
                </a:cubicBezTo>
                <a:cubicBezTo>
                  <a:pt x="9584" y="13965"/>
                  <a:pt x="9691" y="13930"/>
                  <a:pt x="9798" y="13915"/>
                </a:cubicBezTo>
                <a:cubicBezTo>
                  <a:pt x="9993" y="13888"/>
                  <a:pt x="10201" y="13876"/>
                  <a:pt x="10393" y="13841"/>
                </a:cubicBezTo>
                <a:cubicBezTo>
                  <a:pt x="10456" y="13829"/>
                  <a:pt x="10481" y="13816"/>
                  <a:pt x="10542" y="13816"/>
                </a:cubicBezTo>
                <a:cubicBezTo>
                  <a:pt x="10567" y="13816"/>
                  <a:pt x="10575" y="13816"/>
                  <a:pt x="10592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1760" y="3490920"/>
            <a:ext cx="15228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265" y="9748"/>
                </a:moveTo>
                <a:cubicBezTo>
                  <a:pt x="1265" y="9625"/>
                  <a:pt x="1342" y="9980"/>
                  <a:pt x="1364" y="10021"/>
                </a:cubicBezTo>
                <a:cubicBezTo>
                  <a:pt x="1411" y="10068"/>
                  <a:pt x="1429" y="10089"/>
                  <a:pt x="1389" y="10021"/>
                </a:cubicBezTo>
              </a:path>
              <a:path w="423" h="373">
                <a:moveTo>
                  <a:pt x="1116" y="9947"/>
                </a:moveTo>
                <a:cubicBezTo>
                  <a:pt x="1257" y="9891"/>
                  <a:pt x="1393" y="9843"/>
                  <a:pt x="1538" y="9798"/>
                </a:cubicBezTo>
              </a:path>
              <a:path w="423" h="373">
                <a:moveTo>
                  <a:pt x="1364" y="9723"/>
                </a:moveTo>
                <a:cubicBezTo>
                  <a:pt x="1299" y="9833"/>
                  <a:pt x="1231" y="9938"/>
                  <a:pt x="1166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6040" y="4044960"/>
            <a:ext cx="169920" cy="162000"/>
          </a:xfrm>
          <a:custGeom>
            <a:avLst/>
            <a:gdLst/>
            <a:ahLst/>
            <a:rect l="l" t="t" r="r" b="b"/>
            <a:pathLst>
              <a:path w="473" h="447">
                <a:moveTo>
                  <a:pt x="1463" y="11336"/>
                </a:moveTo>
                <a:cubicBezTo>
                  <a:pt x="1463" y="11464"/>
                  <a:pt x="1514" y="11568"/>
                  <a:pt x="1563" y="11683"/>
                </a:cubicBezTo>
              </a:path>
              <a:path w="473" h="447">
                <a:moveTo>
                  <a:pt x="1339" y="11609"/>
                </a:moveTo>
                <a:cubicBezTo>
                  <a:pt x="1436" y="11555"/>
                  <a:pt x="1547" y="11499"/>
                  <a:pt x="1637" y="11435"/>
                </a:cubicBezTo>
              </a:path>
              <a:path w="473" h="447">
                <a:moveTo>
                  <a:pt x="1588" y="11237"/>
                </a:moveTo>
                <a:cubicBezTo>
                  <a:pt x="1532" y="11386"/>
                  <a:pt x="1481" y="11533"/>
                  <a:pt x="1389" y="11658"/>
                </a:cubicBezTo>
              </a:path>
              <a:path w="473" h="447">
                <a:moveTo>
                  <a:pt x="1240" y="11460"/>
                </a:moveTo>
                <a:cubicBezTo>
                  <a:pt x="1410" y="11500"/>
                  <a:pt x="1549" y="11569"/>
                  <a:pt x="1712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9760" y="4562640"/>
            <a:ext cx="152280" cy="11736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1538" y="12675"/>
                </a:moveTo>
                <a:cubicBezTo>
                  <a:pt x="1554" y="12788"/>
                  <a:pt x="1593" y="12892"/>
                  <a:pt x="1637" y="12998"/>
                </a:cubicBezTo>
              </a:path>
              <a:path w="423" h="324">
                <a:moveTo>
                  <a:pt x="1488" y="12898"/>
                </a:moveTo>
                <a:cubicBezTo>
                  <a:pt x="1611" y="12862"/>
                  <a:pt x="1711" y="12832"/>
                  <a:pt x="1811" y="12750"/>
                </a:cubicBezTo>
              </a:path>
              <a:path w="423" h="324">
                <a:moveTo>
                  <a:pt x="1712" y="12700"/>
                </a:moveTo>
                <a:cubicBezTo>
                  <a:pt x="1634" y="12823"/>
                  <a:pt x="1610" y="12911"/>
                  <a:pt x="1513" y="12923"/>
                </a:cubicBezTo>
              </a:path>
              <a:path w="423" h="324">
                <a:moveTo>
                  <a:pt x="1513" y="12923"/>
                </a:moveTo>
                <a:lnTo>
                  <a:pt x="1513" y="12923"/>
                </a:lnTo>
              </a:path>
              <a:path w="423" h="324">
                <a:moveTo>
                  <a:pt x="1414" y="12774"/>
                </a:moveTo>
                <a:cubicBezTo>
                  <a:pt x="1569" y="12803"/>
                  <a:pt x="1688" y="12832"/>
                  <a:pt x="183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’t a line be both increasing and decreasing, depending on how you look a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great question.  The simple answer is ‘no’ because we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ust always read lines from left to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us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scribe how these two lines ar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54560" y="4111560"/>
            <a:ext cx="2884680" cy="6066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31200" y="1835280"/>
            <a:ext cx="758880" cy="27334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2000" y="3000240"/>
            <a:ext cx="1420920" cy="258840"/>
          </a:xfrm>
          <a:custGeom>
            <a:avLst/>
            <a:gdLst/>
            <a:ahLst/>
            <a:rect l="l" t="t" r="r" b="b"/>
            <a:pathLst>
              <a:path w="3945" h="721">
                <a:moveTo>
                  <a:pt x="12948" y="8384"/>
                </a:moveTo>
                <a:cubicBezTo>
                  <a:pt x="12948" y="8285"/>
                  <a:pt x="12940" y="8533"/>
                  <a:pt x="12948" y="8632"/>
                </a:cubicBezTo>
                <a:cubicBezTo>
                  <a:pt x="12959" y="8757"/>
                  <a:pt x="12998" y="9130"/>
                  <a:pt x="12998" y="9004"/>
                </a:cubicBezTo>
                <a:cubicBezTo>
                  <a:pt x="12998" y="8987"/>
                  <a:pt x="12998" y="8971"/>
                  <a:pt x="12998" y="8954"/>
                </a:cubicBezTo>
              </a:path>
              <a:path w="3945" h="721">
                <a:moveTo>
                  <a:pt x="12626" y="8756"/>
                </a:moveTo>
                <a:cubicBezTo>
                  <a:pt x="12830" y="8696"/>
                  <a:pt x="13036" y="8641"/>
                  <a:pt x="13246" y="8607"/>
                </a:cubicBezTo>
                <a:cubicBezTo>
                  <a:pt x="13271" y="8607"/>
                  <a:pt x="13279" y="8607"/>
                  <a:pt x="13295" y="8607"/>
                </a:cubicBezTo>
              </a:path>
              <a:path w="3945" h="721">
                <a:moveTo>
                  <a:pt x="13122" y="8334"/>
                </a:moveTo>
                <a:cubicBezTo>
                  <a:pt x="12993" y="8546"/>
                  <a:pt x="12844" y="8765"/>
                  <a:pt x="12774" y="9004"/>
                </a:cubicBezTo>
                <a:cubicBezTo>
                  <a:pt x="12774" y="9012"/>
                  <a:pt x="12774" y="9021"/>
                  <a:pt x="12774" y="9029"/>
                </a:cubicBezTo>
              </a:path>
              <a:path w="3945" h="721">
                <a:moveTo>
                  <a:pt x="12551" y="8508"/>
                </a:moveTo>
                <a:cubicBezTo>
                  <a:pt x="12740" y="8602"/>
                  <a:pt x="12909" y="8711"/>
                  <a:pt x="13122" y="8781"/>
                </a:cubicBezTo>
                <a:cubicBezTo>
                  <a:pt x="13273" y="8824"/>
                  <a:pt x="13311" y="8830"/>
                  <a:pt x="13395" y="8880"/>
                </a:cubicBezTo>
              </a:path>
              <a:path w="3945" h="721">
                <a:moveTo>
                  <a:pt x="9451" y="9054"/>
                </a:moveTo>
                <a:cubicBezTo>
                  <a:pt x="9680" y="9016"/>
                  <a:pt x="9914" y="8985"/>
                  <a:pt x="10145" y="8954"/>
                </a:cubicBezTo>
                <a:cubicBezTo>
                  <a:pt x="10558" y="8898"/>
                  <a:pt x="10971" y="8829"/>
                  <a:pt x="11385" y="8781"/>
                </a:cubicBezTo>
                <a:cubicBezTo>
                  <a:pt x="11430" y="8781"/>
                  <a:pt x="11450" y="8778"/>
                  <a:pt x="11410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7720" y="3652920"/>
            <a:ext cx="608040" cy="34920"/>
          </a:xfrm>
          <a:custGeom>
            <a:avLst/>
            <a:gdLst/>
            <a:ahLst/>
            <a:rect l="l" t="t" r="r" b="b"/>
            <a:pathLst>
              <a:path w="1687" h="100">
                <a:moveTo>
                  <a:pt x="2828" y="10244"/>
                </a:moveTo>
                <a:cubicBezTo>
                  <a:pt x="3019" y="10232"/>
                  <a:pt x="3206" y="10230"/>
                  <a:pt x="3398" y="10220"/>
                </a:cubicBezTo>
                <a:cubicBezTo>
                  <a:pt x="3762" y="10201"/>
                  <a:pt x="4126" y="10159"/>
                  <a:pt x="4490" y="10145"/>
                </a:cubicBezTo>
                <a:cubicBezTo>
                  <a:pt x="4498" y="10145"/>
                  <a:pt x="4506" y="10145"/>
                  <a:pt x="4514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920" y="274320"/>
            <a:ext cx="8974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whether the line of each color is increasing, decreasing or constant in the graph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)  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)  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91080" y="2319480"/>
            <a:ext cx="4552920" cy="4538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5103720" y="4946400"/>
            <a:ext cx="1516320" cy="60804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69200" y="3808440"/>
            <a:ext cx="2125440" cy="76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175360"/>
            <a:ext cx="1820880" cy="151740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799160" y="2670120"/>
            <a:ext cx="4022640" cy="3718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000560" y="2897280"/>
            <a:ext cx="455400" cy="349092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67320"/>
            <a:ext cx="197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32160" y="4348080"/>
            <a:ext cx="384120" cy="349200"/>
          </a:xfrm>
          <a:custGeom>
            <a:avLst/>
            <a:gdLst/>
            <a:ahLst/>
            <a:rect l="l" t="t" r="r" b="b"/>
            <a:pathLst>
              <a:path w="1068" h="968">
                <a:moveTo>
                  <a:pt x="12353" y="12427"/>
                </a:moveTo>
                <a:cubicBezTo>
                  <a:pt x="12314" y="12584"/>
                  <a:pt x="12302" y="12686"/>
                  <a:pt x="12353" y="12849"/>
                </a:cubicBezTo>
                <a:cubicBezTo>
                  <a:pt x="12361" y="12865"/>
                  <a:pt x="12370" y="12882"/>
                  <a:pt x="12378" y="12898"/>
                </a:cubicBezTo>
              </a:path>
              <a:path w="1068" h="968">
                <a:moveTo>
                  <a:pt x="11857" y="12874"/>
                </a:moveTo>
                <a:cubicBezTo>
                  <a:pt x="12075" y="13067"/>
                  <a:pt x="12315" y="13118"/>
                  <a:pt x="12601" y="12973"/>
                </a:cubicBezTo>
                <a:cubicBezTo>
                  <a:pt x="12916" y="12813"/>
                  <a:pt x="12861" y="12423"/>
                  <a:pt x="12650" y="12204"/>
                </a:cubicBezTo>
                <a:cubicBezTo>
                  <a:pt x="12351" y="11895"/>
                  <a:pt x="11861" y="12133"/>
                  <a:pt x="11757" y="12502"/>
                </a:cubicBezTo>
                <a:cubicBezTo>
                  <a:pt x="11637" y="12928"/>
                  <a:pt x="12047" y="12946"/>
                  <a:pt x="12303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0000" y="4911840"/>
            <a:ext cx="463680" cy="839520"/>
          </a:xfrm>
          <a:custGeom>
            <a:avLst/>
            <a:gdLst/>
            <a:ahLst/>
            <a:rect l="l" t="t" r="r" b="b"/>
            <a:pathLst>
              <a:path w="1291" h="2332">
                <a:moveTo>
                  <a:pt x="13543" y="15230"/>
                </a:moveTo>
                <a:cubicBezTo>
                  <a:pt x="13551" y="15223"/>
                  <a:pt x="13770" y="15106"/>
                  <a:pt x="13816" y="15280"/>
                </a:cubicBezTo>
                <a:cubicBezTo>
                  <a:pt x="13886" y="15545"/>
                  <a:pt x="13524" y="15620"/>
                  <a:pt x="13370" y="15627"/>
                </a:cubicBezTo>
                <a:cubicBezTo>
                  <a:pt x="13467" y="15516"/>
                  <a:pt x="13576" y="15466"/>
                  <a:pt x="13667" y="15627"/>
                </a:cubicBezTo>
                <a:cubicBezTo>
                  <a:pt x="13690" y="15717"/>
                  <a:pt x="13698" y="15741"/>
                  <a:pt x="13692" y="15801"/>
                </a:cubicBezTo>
              </a:path>
              <a:path w="1291" h="2332">
                <a:moveTo>
                  <a:pt x="13196" y="15801"/>
                </a:moveTo>
                <a:cubicBezTo>
                  <a:pt x="13446" y="15913"/>
                  <a:pt x="13794" y="16032"/>
                  <a:pt x="14039" y="15801"/>
                </a:cubicBezTo>
                <a:cubicBezTo>
                  <a:pt x="14306" y="15550"/>
                  <a:pt x="14068" y="15125"/>
                  <a:pt x="13791" y="15007"/>
                </a:cubicBezTo>
                <a:cubicBezTo>
                  <a:pt x="13436" y="14856"/>
                  <a:pt x="13041" y="15213"/>
                  <a:pt x="12998" y="15553"/>
                </a:cubicBezTo>
                <a:cubicBezTo>
                  <a:pt x="12934" y="16057"/>
                  <a:pt x="13657" y="15945"/>
                  <a:pt x="13915" y="15925"/>
                </a:cubicBezTo>
              </a:path>
              <a:path w="1291" h="2332">
                <a:moveTo>
                  <a:pt x="13618" y="14039"/>
                </a:moveTo>
                <a:cubicBezTo>
                  <a:pt x="13580" y="14045"/>
                  <a:pt x="13439" y="14048"/>
                  <a:pt x="13444" y="14089"/>
                </a:cubicBezTo>
                <a:cubicBezTo>
                  <a:pt x="13467" y="14181"/>
                  <a:pt x="13473" y="14206"/>
                  <a:pt x="13494" y="14263"/>
                </a:cubicBezTo>
                <a:cubicBezTo>
                  <a:pt x="13618" y="14213"/>
                  <a:pt x="13681" y="14148"/>
                  <a:pt x="13841" y="14163"/>
                </a:cubicBezTo>
                <a:cubicBezTo>
                  <a:pt x="13858" y="14171"/>
                  <a:pt x="13874" y="14180"/>
                  <a:pt x="13891" y="14188"/>
                </a:cubicBezTo>
                <a:cubicBezTo>
                  <a:pt x="13815" y="14270"/>
                  <a:pt x="13638" y="14484"/>
                  <a:pt x="13543" y="14337"/>
                </a:cubicBezTo>
                <a:cubicBezTo>
                  <a:pt x="13535" y="14312"/>
                  <a:pt x="13527" y="14288"/>
                  <a:pt x="13519" y="14263"/>
                </a:cubicBezTo>
              </a:path>
              <a:path w="1291" h="2332">
                <a:moveTo>
                  <a:pt x="13221" y="14635"/>
                </a:moveTo>
                <a:cubicBezTo>
                  <a:pt x="13560" y="14647"/>
                  <a:pt x="13915" y="14582"/>
                  <a:pt x="14163" y="14312"/>
                </a:cubicBezTo>
                <a:cubicBezTo>
                  <a:pt x="14454" y="13995"/>
                  <a:pt x="14204" y="13636"/>
                  <a:pt x="13816" y="13643"/>
                </a:cubicBezTo>
                <a:cubicBezTo>
                  <a:pt x="13415" y="13650"/>
                  <a:pt x="12878" y="14040"/>
                  <a:pt x="13072" y="14511"/>
                </a:cubicBezTo>
                <a:cubicBezTo>
                  <a:pt x="13271" y="14653"/>
                  <a:pt x="13359" y="14687"/>
                  <a:pt x="13543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589120"/>
            <a:ext cx="652320" cy="420840"/>
          </a:xfrm>
          <a:custGeom>
            <a:avLst/>
            <a:gdLst/>
            <a:ahLst/>
            <a:rect l="l" t="t" r="r" b="b"/>
            <a:pathLst>
              <a:path w="1812" h="1167">
                <a:moveTo>
                  <a:pt x="6350" y="7590"/>
                </a:moveTo>
                <a:cubicBezTo>
                  <a:pt x="6358" y="7756"/>
                  <a:pt x="6375" y="7919"/>
                  <a:pt x="6375" y="8086"/>
                </a:cubicBezTo>
                <a:cubicBezTo>
                  <a:pt x="6386" y="7811"/>
                  <a:pt x="6367" y="7698"/>
                  <a:pt x="6623" y="7590"/>
                </a:cubicBezTo>
                <a:cubicBezTo>
                  <a:pt x="6765" y="7783"/>
                  <a:pt x="6825" y="7939"/>
                  <a:pt x="6846" y="8186"/>
                </a:cubicBezTo>
                <a:cubicBezTo>
                  <a:pt x="6846" y="8225"/>
                  <a:pt x="6857" y="8223"/>
                  <a:pt x="6896" y="8161"/>
                </a:cubicBezTo>
              </a:path>
              <a:path w="1812" h="1167">
                <a:moveTo>
                  <a:pt x="7317" y="7193"/>
                </a:moveTo>
                <a:cubicBezTo>
                  <a:pt x="7308" y="7564"/>
                  <a:pt x="7254" y="7918"/>
                  <a:pt x="7218" y="8285"/>
                </a:cubicBezTo>
                <a:cubicBezTo>
                  <a:pt x="7218" y="8383"/>
                  <a:pt x="7230" y="8387"/>
                  <a:pt x="7293" y="8235"/>
                </a:cubicBezTo>
              </a:path>
              <a:path w="1812" h="1167">
                <a:moveTo>
                  <a:pt x="7863" y="7590"/>
                </a:moveTo>
                <a:cubicBezTo>
                  <a:pt x="7890" y="7645"/>
                  <a:pt x="7884" y="7527"/>
                  <a:pt x="7888" y="7466"/>
                </a:cubicBezTo>
                <a:cubicBezTo>
                  <a:pt x="7688" y="7434"/>
                  <a:pt x="7449" y="7787"/>
                  <a:pt x="7615" y="8012"/>
                </a:cubicBezTo>
                <a:cubicBezTo>
                  <a:pt x="7736" y="8177"/>
                  <a:pt x="8016" y="8045"/>
                  <a:pt x="8161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3200" y="3205080"/>
            <a:ext cx="44640" cy="304920"/>
          </a:xfrm>
          <a:custGeom>
            <a:avLst/>
            <a:gdLst/>
            <a:ahLst/>
            <a:rect l="l" t="t" r="r" b="b"/>
            <a:pathLst>
              <a:path w="125" h="844">
                <a:moveTo>
                  <a:pt x="6970" y="9302"/>
                </a:moveTo>
                <a:cubicBezTo>
                  <a:pt x="6975" y="9368"/>
                  <a:pt x="7048" y="9716"/>
                  <a:pt x="6995" y="9748"/>
                </a:cubicBezTo>
                <a:cubicBezTo>
                  <a:pt x="6987" y="9723"/>
                  <a:pt x="6978" y="9699"/>
                  <a:pt x="6970" y="9674"/>
                </a:cubicBezTo>
              </a:path>
              <a:path w="125" h="844">
                <a:moveTo>
                  <a:pt x="6871" y="8905"/>
                </a:moveTo>
                <a:cubicBezTo>
                  <a:pt x="6896" y="8905"/>
                  <a:pt x="6904" y="8905"/>
                  <a:pt x="6921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6120" y="3205080"/>
            <a:ext cx="401760" cy="223920"/>
          </a:xfrm>
          <a:custGeom>
            <a:avLst/>
            <a:gdLst/>
            <a:ahLst/>
            <a:rect l="l" t="t" r="r" b="b"/>
            <a:pathLst>
              <a:path w="1117" h="621">
                <a:moveTo>
                  <a:pt x="7317" y="9376"/>
                </a:moveTo>
                <a:cubicBezTo>
                  <a:pt x="7325" y="9395"/>
                  <a:pt x="7342" y="9483"/>
                  <a:pt x="7342" y="9426"/>
                </a:cubicBezTo>
                <a:cubicBezTo>
                  <a:pt x="7255" y="9300"/>
                  <a:pt x="7243" y="9217"/>
                  <a:pt x="7367" y="9103"/>
                </a:cubicBezTo>
                <a:cubicBezTo>
                  <a:pt x="7537" y="8946"/>
                  <a:pt x="7686" y="9240"/>
                  <a:pt x="7714" y="9376"/>
                </a:cubicBezTo>
                <a:cubicBezTo>
                  <a:pt x="7731" y="9457"/>
                  <a:pt x="7714" y="9509"/>
                  <a:pt x="7714" y="9426"/>
                </a:cubicBezTo>
              </a:path>
              <a:path w="1117" h="621">
                <a:moveTo>
                  <a:pt x="8186" y="9079"/>
                </a:moveTo>
                <a:cubicBezTo>
                  <a:pt x="8176" y="8999"/>
                  <a:pt x="8158" y="8978"/>
                  <a:pt x="8111" y="8905"/>
                </a:cubicBezTo>
                <a:cubicBezTo>
                  <a:pt x="8001" y="8994"/>
                  <a:pt x="7702" y="9313"/>
                  <a:pt x="8012" y="9401"/>
                </a:cubicBezTo>
                <a:cubicBezTo>
                  <a:pt x="8195" y="9375"/>
                  <a:pt x="8262" y="9364"/>
                  <a:pt x="8384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0800" y="331308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8806" y="9203"/>
                </a:moveTo>
                <a:cubicBezTo>
                  <a:pt x="8798" y="9203"/>
                  <a:pt x="8789" y="9203"/>
                  <a:pt x="8781" y="9203"/>
                </a:cubicBezTo>
              </a:path>
              <a:path w="26" h="1">
                <a:moveTo>
                  <a:pt x="8781" y="9203"/>
                </a:moveTo>
                <a:lnTo>
                  <a:pt x="8781" y="92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62120" y="3705120"/>
            <a:ext cx="644760" cy="277920"/>
          </a:xfrm>
          <a:custGeom>
            <a:avLst/>
            <a:gdLst/>
            <a:ahLst/>
            <a:rect l="l" t="t" r="r" b="b"/>
            <a:pathLst>
              <a:path w="1787" h="770">
                <a:moveTo>
                  <a:pt x="7541" y="10889"/>
                </a:moveTo>
                <a:cubicBezTo>
                  <a:pt x="7557" y="10783"/>
                  <a:pt x="7534" y="10553"/>
                  <a:pt x="7342" y="10616"/>
                </a:cubicBezTo>
                <a:cubicBezTo>
                  <a:pt x="7202" y="10729"/>
                  <a:pt x="7151" y="10781"/>
                  <a:pt x="7119" y="10914"/>
                </a:cubicBezTo>
                <a:cubicBezTo>
                  <a:pt x="7188" y="11052"/>
                  <a:pt x="7403" y="11151"/>
                  <a:pt x="7441" y="10889"/>
                </a:cubicBezTo>
                <a:cubicBezTo>
                  <a:pt x="7416" y="10656"/>
                  <a:pt x="7406" y="10573"/>
                  <a:pt x="7367" y="10418"/>
                </a:cubicBezTo>
                <a:cubicBezTo>
                  <a:pt x="7331" y="10328"/>
                  <a:pt x="7314" y="10250"/>
                  <a:pt x="7317" y="10319"/>
                </a:cubicBezTo>
                <a:cubicBezTo>
                  <a:pt x="7394" y="10550"/>
                  <a:pt x="7345" y="11158"/>
                  <a:pt x="7541" y="11013"/>
                </a:cubicBezTo>
                <a:cubicBezTo>
                  <a:pt x="7557" y="10972"/>
                  <a:pt x="7574" y="10930"/>
                  <a:pt x="7590" y="10889"/>
                </a:cubicBezTo>
              </a:path>
              <a:path w="1787" h="770">
                <a:moveTo>
                  <a:pt x="7640" y="10740"/>
                </a:moveTo>
                <a:cubicBezTo>
                  <a:pt x="7703" y="10734"/>
                  <a:pt x="7895" y="10743"/>
                  <a:pt x="7938" y="10716"/>
                </a:cubicBezTo>
                <a:cubicBezTo>
                  <a:pt x="7938" y="10683"/>
                  <a:pt x="7938" y="10666"/>
                  <a:pt x="7938" y="10641"/>
                </a:cubicBezTo>
                <a:cubicBezTo>
                  <a:pt x="7758" y="10575"/>
                  <a:pt x="7610" y="10563"/>
                  <a:pt x="7665" y="10815"/>
                </a:cubicBezTo>
                <a:cubicBezTo>
                  <a:pt x="7739" y="11153"/>
                  <a:pt x="8078" y="10773"/>
                  <a:pt x="8161" y="10691"/>
                </a:cubicBezTo>
              </a:path>
              <a:path w="1787" h="770">
                <a:moveTo>
                  <a:pt x="8384" y="10492"/>
                </a:moveTo>
                <a:cubicBezTo>
                  <a:pt x="8407" y="10515"/>
                  <a:pt x="8415" y="10526"/>
                  <a:pt x="8409" y="10492"/>
                </a:cubicBezTo>
                <a:cubicBezTo>
                  <a:pt x="8233" y="10376"/>
                  <a:pt x="8202" y="10543"/>
                  <a:pt x="8210" y="10716"/>
                </a:cubicBezTo>
                <a:cubicBezTo>
                  <a:pt x="8222" y="10976"/>
                  <a:pt x="8527" y="10780"/>
                  <a:pt x="8632" y="10716"/>
                </a:cubicBezTo>
              </a:path>
              <a:path w="1787" h="770">
                <a:moveTo>
                  <a:pt x="8880" y="10616"/>
                </a:moveTo>
                <a:cubicBezTo>
                  <a:pt x="8880" y="10664"/>
                  <a:pt x="8884" y="10666"/>
                  <a:pt x="8905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41760" y="4348080"/>
            <a:ext cx="633240" cy="277920"/>
          </a:xfrm>
          <a:custGeom>
            <a:avLst/>
            <a:gdLst/>
            <a:ahLst/>
            <a:rect l="l" t="t" r="r" b="b"/>
            <a:pathLst>
              <a:path w="1762" h="770">
                <a:moveTo>
                  <a:pt x="8012" y="12626"/>
                </a:moveTo>
                <a:cubicBezTo>
                  <a:pt x="8075" y="12605"/>
                  <a:pt x="7975" y="12527"/>
                  <a:pt x="7938" y="12502"/>
                </a:cubicBezTo>
                <a:cubicBezTo>
                  <a:pt x="7762" y="12385"/>
                  <a:pt x="7632" y="12499"/>
                  <a:pt x="7615" y="12700"/>
                </a:cubicBezTo>
                <a:cubicBezTo>
                  <a:pt x="7623" y="12741"/>
                  <a:pt x="7632" y="12783"/>
                  <a:pt x="7640" y="12824"/>
                </a:cubicBezTo>
                <a:cubicBezTo>
                  <a:pt x="7941" y="12842"/>
                  <a:pt x="7930" y="12727"/>
                  <a:pt x="7987" y="12452"/>
                </a:cubicBezTo>
              </a:path>
              <a:path w="1762" h="770">
                <a:moveTo>
                  <a:pt x="7888" y="12080"/>
                </a:moveTo>
                <a:cubicBezTo>
                  <a:pt x="7934" y="12319"/>
                  <a:pt x="7984" y="12567"/>
                  <a:pt x="8062" y="12799"/>
                </a:cubicBezTo>
                <a:cubicBezTo>
                  <a:pt x="8062" y="12791"/>
                  <a:pt x="8062" y="12782"/>
                  <a:pt x="8062" y="12774"/>
                </a:cubicBezTo>
              </a:path>
              <a:path w="1762" h="770">
                <a:moveTo>
                  <a:pt x="8210" y="12551"/>
                </a:moveTo>
                <a:cubicBezTo>
                  <a:pt x="8316" y="12513"/>
                  <a:pt x="8445" y="12481"/>
                  <a:pt x="8508" y="12402"/>
                </a:cubicBezTo>
                <a:cubicBezTo>
                  <a:pt x="8324" y="12349"/>
                  <a:pt x="8091" y="12366"/>
                  <a:pt x="8111" y="12650"/>
                </a:cubicBezTo>
                <a:cubicBezTo>
                  <a:pt x="8143" y="13102"/>
                  <a:pt x="8606" y="12676"/>
                  <a:pt x="8706" y="12576"/>
                </a:cubicBezTo>
              </a:path>
              <a:path w="1762" h="770">
                <a:moveTo>
                  <a:pt x="8855" y="12328"/>
                </a:moveTo>
                <a:cubicBezTo>
                  <a:pt x="8872" y="12336"/>
                  <a:pt x="8888" y="12345"/>
                  <a:pt x="8905" y="12353"/>
                </a:cubicBezTo>
                <a:cubicBezTo>
                  <a:pt x="8905" y="12391"/>
                  <a:pt x="8851" y="12260"/>
                  <a:pt x="8756" y="12378"/>
                </a:cubicBezTo>
                <a:cubicBezTo>
                  <a:pt x="8518" y="12675"/>
                  <a:pt x="8888" y="12673"/>
                  <a:pt x="9054" y="12650"/>
                </a:cubicBezTo>
              </a:path>
              <a:path w="1762" h="770">
                <a:moveTo>
                  <a:pt x="9376" y="12576"/>
                </a:moveTo>
                <a:cubicBezTo>
                  <a:pt x="9376" y="12584"/>
                  <a:pt x="9376" y="12593"/>
                  <a:pt x="9376" y="12601"/>
                </a:cubicBezTo>
              </a:path>
              <a:path w="1762" h="770">
                <a:moveTo>
                  <a:pt x="9376" y="12601"/>
                </a:moveTo>
                <a:lnTo>
                  <a:pt x="9376" y="126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61040" y="3411360"/>
            <a:ext cx="438120" cy="374760"/>
          </a:xfrm>
          <a:custGeom>
            <a:avLst/>
            <a:gdLst/>
            <a:ahLst/>
            <a:rect l="l" t="t" r="r" b="b"/>
            <a:pathLst>
              <a:path w="1217" h="1043">
                <a:moveTo>
                  <a:pt x="17611" y="9996"/>
                </a:moveTo>
                <a:cubicBezTo>
                  <a:pt x="17659" y="9980"/>
                  <a:pt x="18045" y="9884"/>
                  <a:pt x="17884" y="10071"/>
                </a:cubicBezTo>
                <a:cubicBezTo>
                  <a:pt x="17756" y="10147"/>
                  <a:pt x="17711" y="10173"/>
                  <a:pt x="17611" y="10195"/>
                </a:cubicBezTo>
                <a:cubicBezTo>
                  <a:pt x="17652" y="10154"/>
                  <a:pt x="17682" y="10140"/>
                  <a:pt x="17735" y="10145"/>
                </a:cubicBezTo>
                <a:cubicBezTo>
                  <a:pt x="18016" y="10239"/>
                  <a:pt x="17985" y="10382"/>
                  <a:pt x="17661" y="10393"/>
                </a:cubicBezTo>
                <a:cubicBezTo>
                  <a:pt x="17546" y="10397"/>
                  <a:pt x="17450" y="10355"/>
                  <a:pt x="17438" y="10294"/>
                </a:cubicBezTo>
              </a:path>
              <a:path w="1217" h="1043">
                <a:moveTo>
                  <a:pt x="17239" y="10393"/>
                </a:moveTo>
                <a:cubicBezTo>
                  <a:pt x="17425" y="10528"/>
                  <a:pt x="17633" y="10549"/>
                  <a:pt x="17859" y="10468"/>
                </a:cubicBezTo>
                <a:cubicBezTo>
                  <a:pt x="18133" y="10370"/>
                  <a:pt x="18472" y="10080"/>
                  <a:pt x="18256" y="9773"/>
                </a:cubicBezTo>
                <a:cubicBezTo>
                  <a:pt x="18028" y="9449"/>
                  <a:pt x="17609" y="9347"/>
                  <a:pt x="17338" y="9674"/>
                </a:cubicBezTo>
                <a:cubicBezTo>
                  <a:pt x="17193" y="9849"/>
                  <a:pt x="16939" y="10370"/>
                  <a:pt x="17338" y="10443"/>
                </a:cubicBezTo>
                <a:cubicBezTo>
                  <a:pt x="17413" y="10435"/>
                  <a:pt x="17487" y="10426"/>
                  <a:pt x="17562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02080" y="2205000"/>
            <a:ext cx="509760" cy="474840"/>
          </a:xfrm>
          <a:custGeom>
            <a:avLst/>
            <a:gdLst/>
            <a:ahLst/>
            <a:rect l="l" t="t" r="r" b="b"/>
            <a:pathLst>
              <a:path w="1415" h="1315">
                <a:moveTo>
                  <a:pt x="12799" y="6697"/>
                </a:moveTo>
                <a:cubicBezTo>
                  <a:pt x="12799" y="6805"/>
                  <a:pt x="12799" y="6830"/>
                  <a:pt x="12799" y="6896"/>
                </a:cubicBezTo>
                <a:cubicBezTo>
                  <a:pt x="12963" y="6855"/>
                  <a:pt x="13126" y="6832"/>
                  <a:pt x="13295" y="6821"/>
                </a:cubicBezTo>
              </a:path>
              <a:path w="1415" h="1315">
                <a:moveTo>
                  <a:pt x="13146" y="6424"/>
                </a:moveTo>
                <a:cubicBezTo>
                  <a:pt x="13154" y="6657"/>
                  <a:pt x="13171" y="6886"/>
                  <a:pt x="13171" y="7119"/>
                </a:cubicBezTo>
              </a:path>
              <a:path w="1415" h="1315">
                <a:moveTo>
                  <a:pt x="12526" y="7367"/>
                </a:moveTo>
                <a:cubicBezTo>
                  <a:pt x="12921" y="7443"/>
                  <a:pt x="13306" y="7400"/>
                  <a:pt x="13543" y="6995"/>
                </a:cubicBezTo>
                <a:cubicBezTo>
                  <a:pt x="13783" y="6585"/>
                  <a:pt x="13559" y="6434"/>
                  <a:pt x="13320" y="6152"/>
                </a:cubicBezTo>
                <a:cubicBezTo>
                  <a:pt x="13005" y="6208"/>
                  <a:pt x="11724" y="6672"/>
                  <a:pt x="12278" y="7293"/>
                </a:cubicBezTo>
                <a:cubicBezTo>
                  <a:pt x="12394" y="7318"/>
                  <a:pt x="12510" y="7342"/>
                  <a:pt x="12626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857840"/>
            <a:ext cx="58896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7218" y="13965"/>
                </a:moveTo>
                <a:cubicBezTo>
                  <a:pt x="7197" y="13859"/>
                  <a:pt x="7088" y="13770"/>
                  <a:pt x="6970" y="13816"/>
                </a:cubicBezTo>
                <a:cubicBezTo>
                  <a:pt x="6749" y="13901"/>
                  <a:pt x="6801" y="14072"/>
                  <a:pt x="6821" y="14238"/>
                </a:cubicBezTo>
                <a:cubicBezTo>
                  <a:pt x="7111" y="14276"/>
                  <a:pt x="7203" y="14165"/>
                  <a:pt x="7144" y="13841"/>
                </a:cubicBezTo>
                <a:cubicBezTo>
                  <a:pt x="7129" y="13757"/>
                  <a:pt x="7045" y="13531"/>
                  <a:pt x="7020" y="13519"/>
                </a:cubicBezTo>
                <a:cubicBezTo>
                  <a:pt x="7074" y="13673"/>
                  <a:pt x="7181" y="14068"/>
                  <a:pt x="7243" y="14114"/>
                </a:cubicBezTo>
              </a:path>
              <a:path w="1638" h="795">
                <a:moveTo>
                  <a:pt x="7293" y="13915"/>
                </a:moveTo>
                <a:cubicBezTo>
                  <a:pt x="7363" y="13892"/>
                  <a:pt x="7432" y="13849"/>
                  <a:pt x="7466" y="13791"/>
                </a:cubicBezTo>
                <a:cubicBezTo>
                  <a:pt x="7360" y="13820"/>
                  <a:pt x="7129" y="13962"/>
                  <a:pt x="7293" y="14114"/>
                </a:cubicBezTo>
                <a:cubicBezTo>
                  <a:pt x="7495" y="14301"/>
                  <a:pt x="7616" y="13970"/>
                  <a:pt x="7689" y="13866"/>
                </a:cubicBezTo>
              </a:path>
              <a:path w="1638" h="795">
                <a:moveTo>
                  <a:pt x="7813" y="13692"/>
                </a:moveTo>
                <a:cubicBezTo>
                  <a:pt x="7922" y="13692"/>
                  <a:pt x="7781" y="13648"/>
                  <a:pt x="7739" y="13692"/>
                </a:cubicBezTo>
                <a:cubicBezTo>
                  <a:pt x="7549" y="13891"/>
                  <a:pt x="7738" y="13990"/>
                  <a:pt x="7938" y="13990"/>
                </a:cubicBezTo>
                <a:cubicBezTo>
                  <a:pt x="7963" y="13982"/>
                  <a:pt x="7987" y="13973"/>
                  <a:pt x="8012" y="13965"/>
                </a:cubicBezTo>
              </a:path>
              <a:path w="1638" h="795">
                <a:moveTo>
                  <a:pt x="8359" y="13841"/>
                </a:moveTo>
                <a:cubicBezTo>
                  <a:pt x="8384" y="13866"/>
                  <a:pt x="8392" y="13874"/>
                  <a:pt x="8409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3840" y="5384880"/>
            <a:ext cx="53640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7020" y="15156"/>
                </a:moveTo>
                <a:cubicBezTo>
                  <a:pt x="7042" y="15287"/>
                  <a:pt x="7080" y="15419"/>
                  <a:pt x="7094" y="15553"/>
                </a:cubicBezTo>
                <a:cubicBezTo>
                  <a:pt x="7094" y="15611"/>
                  <a:pt x="7110" y="15635"/>
                  <a:pt x="7069" y="15627"/>
                </a:cubicBezTo>
              </a:path>
              <a:path w="1489" h="671">
                <a:moveTo>
                  <a:pt x="6846" y="15056"/>
                </a:moveTo>
                <a:cubicBezTo>
                  <a:pt x="6854" y="15048"/>
                  <a:pt x="6863" y="15040"/>
                  <a:pt x="6871" y="15032"/>
                </a:cubicBezTo>
              </a:path>
              <a:path w="1489" h="671">
                <a:moveTo>
                  <a:pt x="6871" y="15032"/>
                </a:moveTo>
                <a:lnTo>
                  <a:pt x="6871" y="15032"/>
                </a:lnTo>
              </a:path>
              <a:path w="1489" h="671">
                <a:moveTo>
                  <a:pt x="7218" y="15329"/>
                </a:moveTo>
                <a:cubicBezTo>
                  <a:pt x="7258" y="15429"/>
                  <a:pt x="7263" y="15447"/>
                  <a:pt x="7293" y="15503"/>
                </a:cubicBezTo>
                <a:cubicBezTo>
                  <a:pt x="7254" y="15387"/>
                  <a:pt x="7171" y="15305"/>
                  <a:pt x="7268" y="15180"/>
                </a:cubicBezTo>
                <a:cubicBezTo>
                  <a:pt x="7422" y="14983"/>
                  <a:pt x="7611" y="15232"/>
                  <a:pt x="7665" y="15379"/>
                </a:cubicBezTo>
                <a:cubicBezTo>
                  <a:pt x="7665" y="15420"/>
                  <a:pt x="7665" y="15428"/>
                  <a:pt x="7665" y="15453"/>
                </a:cubicBezTo>
              </a:path>
              <a:path w="1489" h="671">
                <a:moveTo>
                  <a:pt x="7888" y="15081"/>
                </a:moveTo>
                <a:cubicBezTo>
                  <a:pt x="7871" y="14978"/>
                  <a:pt x="7871" y="15006"/>
                  <a:pt x="7789" y="14957"/>
                </a:cubicBezTo>
                <a:cubicBezTo>
                  <a:pt x="7716" y="15037"/>
                  <a:pt x="7535" y="15320"/>
                  <a:pt x="7739" y="15404"/>
                </a:cubicBezTo>
                <a:cubicBezTo>
                  <a:pt x="7888" y="15465"/>
                  <a:pt x="8038" y="15341"/>
                  <a:pt x="8161" y="15280"/>
                </a:cubicBezTo>
              </a:path>
              <a:path w="1489" h="671">
                <a:moveTo>
                  <a:pt x="8334" y="15280"/>
                </a:moveTo>
                <a:lnTo>
                  <a:pt x="8334" y="1528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08920" y="2367000"/>
            <a:ext cx="561960" cy="455400"/>
          </a:xfrm>
          <a:custGeom>
            <a:avLst/>
            <a:gdLst/>
            <a:ahLst/>
            <a:rect l="l" t="t" r="r" b="b"/>
            <a:pathLst>
              <a:path w="1563" h="1266">
                <a:moveTo>
                  <a:pt x="20687" y="7045"/>
                </a:moveTo>
                <a:cubicBezTo>
                  <a:pt x="20771" y="6989"/>
                  <a:pt x="20665" y="7206"/>
                  <a:pt x="20662" y="7218"/>
                </a:cubicBezTo>
                <a:cubicBezTo>
                  <a:pt x="20640" y="7310"/>
                  <a:pt x="20629" y="7335"/>
                  <a:pt x="20662" y="7392"/>
                </a:cubicBezTo>
                <a:cubicBezTo>
                  <a:pt x="20748" y="7404"/>
                  <a:pt x="20973" y="7411"/>
                  <a:pt x="21034" y="7317"/>
                </a:cubicBezTo>
                <a:cubicBezTo>
                  <a:pt x="21034" y="7292"/>
                  <a:pt x="21034" y="7268"/>
                  <a:pt x="21034" y="7243"/>
                </a:cubicBezTo>
                <a:cubicBezTo>
                  <a:pt x="20979" y="7159"/>
                  <a:pt x="20852" y="7268"/>
                  <a:pt x="20811" y="7342"/>
                </a:cubicBezTo>
                <a:cubicBezTo>
                  <a:pt x="20792" y="7416"/>
                  <a:pt x="20784" y="7423"/>
                  <a:pt x="20786" y="7466"/>
                </a:cubicBezTo>
              </a:path>
              <a:path w="1563" h="1266">
                <a:moveTo>
                  <a:pt x="20216" y="7714"/>
                </a:moveTo>
                <a:cubicBezTo>
                  <a:pt x="20328" y="7779"/>
                  <a:pt x="20440" y="7838"/>
                  <a:pt x="20588" y="7838"/>
                </a:cubicBezTo>
                <a:cubicBezTo>
                  <a:pt x="20893" y="7838"/>
                  <a:pt x="21279" y="7643"/>
                  <a:pt x="21307" y="7293"/>
                </a:cubicBezTo>
                <a:cubicBezTo>
                  <a:pt x="21333" y="6967"/>
                  <a:pt x="20947" y="6627"/>
                  <a:pt x="20662" y="6573"/>
                </a:cubicBezTo>
                <a:cubicBezTo>
                  <a:pt x="20230" y="6491"/>
                  <a:pt x="19847" y="6741"/>
                  <a:pt x="19745" y="7169"/>
                </a:cubicBezTo>
                <a:cubicBezTo>
                  <a:pt x="19609" y="7744"/>
                  <a:pt x="20122" y="7756"/>
                  <a:pt x="20513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01-21T19:51:44Z</dcterms:modified>
  <cp:revision>13</cp:revision>
  <dc:subject/>
  <dc:title>The Coordinate Plane</dc:title>
</cp:coreProperties>
</file>